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8DA-913B-4CAD-B21C-274442B2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A645-4D5A-4D22-9E94-B45FD931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FAA0-6ECA-479D-B6BF-E5B3A709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4BF5-6134-4815-A5A3-578AD89E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28A6-50B0-4618-AF0F-810A8687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AF26-C585-473A-AAEE-3873C165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9F84-E2B1-411D-BAEB-FE022025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1337-F146-4D13-BA1B-94C7145F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309D-EDC0-48B9-9049-98509E46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F373-4A09-44F0-A414-9E99B98A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E9C3-91E2-4E90-95D9-F16288F6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DB6-10B3-426F-99BB-063D8405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8534-2792-41F6-92A4-983F98DA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72F3-4A71-417D-AE0E-1C069C1C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46FD-71F7-4594-9745-A33BA11F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0A48-F3E7-4FBD-8B9D-B230EADE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5A00-7321-4CDE-BAF9-FBACB19C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407E9-12E3-450F-BAB4-49439C44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71A1B-0612-452E-9AA7-6DD862BE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808FE-F22E-4F5A-8C44-2397B8CD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3A883-039D-4393-BE07-C7730E0A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615421-B123-4C90-9A65-2767C67B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976-3362-46E3-989B-D75469E3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9B35A-FEE1-4D28-9E47-B20AAF9F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12B91-7529-4C44-8BC8-BD3A03B4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B888B-0F17-4B91-872B-CBCE6032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51C42-1641-4E3F-921B-7BBDEA61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2E7C9-AC01-444F-BDCA-DF5F8BEA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3C42E-6172-47BB-A1E5-0A8CFFBD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60E32-EC92-40AC-8BB8-C63F4292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49707-AB9B-4927-9F1F-0C7E16F3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82A73-9138-49D0-87E1-E1723400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BBF25-13EC-48EB-ABC4-2EE842A4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2E1-5E7B-4D2C-94EF-F85B6930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18625-42CC-453A-B83D-66CA5401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40C75-DD36-49A4-95DF-C64F0521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F47E2-826C-4DD5-909F-A59B6050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AD627-5146-423E-B51B-6649C011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BE7C6-9BA8-4B33-9B4C-29ED5F67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E40EF-7AF7-487B-AAAE-6425BB87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DD224-6ECC-4D2C-865A-69C4A632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234FB-294E-47A3-BBEB-7FB17153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DF75F-31FF-4429-9857-F9C3E34C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55B18-B880-4968-A307-F488A274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587-3635-4DCB-B2CD-74A52F31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724713-A9B7-4612-B746-9EB5A3EA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C6B3C-B5C7-4E61-B70E-9A51BBA8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6F09B7-CA99-40C4-A76B-85AD1B3A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F0C1DA-2333-4494-BF15-FC652F80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02C222-DC1A-42D2-9CFA-C68F6D8C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D8BB6-80AA-43E3-B25F-2A8C79EA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A3983-C932-4900-B354-D8FE360B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550A4C-79C7-421F-8EC4-28974D5A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B9C6A6-808C-43A9-8876-F0E3B203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F5460-DD66-4C31-8DCC-AB2775B3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0E6-7ADE-49AB-B41C-15AE0593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247287-ADD7-40E4-91DC-F097BA08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1E2738-5C83-4AAB-BCD4-96ADA0CC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908259-E4F9-451B-A3D8-ECE77D36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8671F5-D947-47CC-961E-879926BD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897211-304C-4A2B-A81B-1A8AA2A8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E62F85-6677-4F4D-9AFB-4C223572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CBF356-1720-4CE5-81E5-DF907785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1A7713-B5B7-4EC0-8AA2-090FE265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B0D95A-A68E-483C-A3AB-58860DC2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E9BE71-80B7-4198-95C8-127D2F07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4629-A0E8-4F5E-ACA1-CBA92CC7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8104F2-23D6-4602-AC0D-975D5465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C2EB15-00C9-465D-AF2B-B283D226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DD3AD0-8F2F-431D-B596-F9D4009F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757934-27D9-4E24-8B2B-9200BAAE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C7A8D0-24D9-47D1-8FB1-CA138AA7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F18730-EA38-472C-B780-E03E5801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B4B2DE-77C6-4B0B-80D8-E1B71F72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CFF613-0E08-4104-8AC6-10C95E67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2DD7D0-2E3E-402F-B766-73471697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A8EB45-C77C-4225-93AF-7E7AE9AF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500B-B90C-49A0-A231-101CA043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B8BC73-F490-4D8F-B24C-0A62D918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30B956-1EF4-425B-A279-41F65414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9025D9-BE76-4B10-80F5-722B1375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D87CFF-14A0-4B7B-95D6-8FEDC510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C48A40-BF1C-4811-AF96-F727F6C1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6BB-B36F-4C52-8F18-07C9C3B8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3B0D-0E58-494B-9501-3D56DBB2EAA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BD2C-05F5-4F62-920E-1468B1B165D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2564-9E6E-463E-AB62-2A67D98E2F7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287F-969E-4247-9DBE-34650E3CF6F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807C-875E-4587-9882-0C70516ED1A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773F-B683-4779-BB75-744196FABAE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5AAE-C9C5-4709-AED8-84DBCAD0CC3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28560" y="2428920"/>
            <a:ext cx="61722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b6e5a"/>
                </a:solidFill>
                <a:latin typeface="Georgia"/>
              </a:rPr>
              <a:t>ЦВЕТОВЫЕ ГАРМОНИ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57160" y="285840"/>
            <a:ext cx="74678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b6e5a"/>
                </a:solidFill>
                <a:latin typeface="Georgia"/>
              </a:rPr>
              <a:t>ЦВЕТОВОЙ КРУГ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Содержимое 3" descr="двенадцатичастный цветовой круг иттен йоханнес"/>
          <p:cNvPicPr/>
          <p:nvPr/>
        </p:nvPicPr>
        <p:blipFill>
          <a:blip r:embed="rId1"/>
          <a:stretch/>
        </p:blipFill>
        <p:spPr>
          <a:xfrm>
            <a:off x="2714760" y="1500120"/>
            <a:ext cx="4833720" cy="47865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Documents and Settings\Наталья\Рабочий стол\Отсканировано 31.01.2012 23-29.jpg"/>
          <p:cNvPicPr/>
          <p:nvPr/>
        </p:nvPicPr>
        <p:blipFill>
          <a:blip r:embed="rId2"/>
          <a:stretch/>
        </p:blipFill>
        <p:spPr>
          <a:xfrm>
            <a:off x="428760" y="1428840"/>
            <a:ext cx="1730160" cy="1908000"/>
          </a:xfrm>
          <a:prstGeom prst="rect">
            <a:avLst/>
          </a:prstGeom>
          <a:ln w="0">
            <a:noFill/>
          </a:ln>
        </p:spPr>
      </p:pic>
      <p:sp>
        <p:nvSpPr>
          <p:cNvPr id="381" name="Заголовок 1"/>
          <p:cNvSpPr/>
          <p:nvPr/>
        </p:nvSpPr>
        <p:spPr>
          <a:xfrm>
            <a:off x="857160" y="285840"/>
            <a:ext cx="7467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b6e5a"/>
                </a:solidFill>
                <a:latin typeface="Georgia"/>
              </a:rPr>
              <a:t>ЦВЕТОВОЙ КР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138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Georgia"/>
              </a:rPr>
              <a:t>ПРАКТИЧЕСКАЯ РАБОТА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71320" y="1000080"/>
            <a:ext cx="74674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ЗАДАНИЕ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b6e5a"/>
                </a:solidFill>
                <a:latin typeface="Georgia"/>
              </a:rPr>
              <a:t>ВЫПОЛНИТЬ КОМПОЗИЦИЮ В ТЕХНИКЕ АППЛИКАЦИИ ИЗ ГЕОМЕТРИЧЕСКИХ ЭЛЕМЕНТОВ ИЛИ ФОРМ, ПРИБЛИЖЕННЫХ К НИМ, ПО ЛЮБОМУ ВИДУ ЦВЕТОВЫХ ГАРМОНИЙ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b6e5a"/>
                </a:solidFill>
                <a:latin typeface="Georgia"/>
              </a:rPr>
              <a:t>ВИД ЦВЕТОВЫХ ГАРМОНИЙ ОПРЕДЕЛЯЕТСЯ САМОСТОЯТЕЛЬНО. КОЛИЧЕСТВО ИСПОЛЬЗУЕМЫХ ЦВЕТОВЫХ ОТТЕНКОВ НЕ ОГОВАРИВАЕТСЯ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ЦЕЛЬ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b6e5a"/>
                </a:solidFill>
                <a:latin typeface="Georgia"/>
              </a:rPr>
              <a:t>СОЗДАТЬ ГАРМОНИЧНЫЕ В ЦВЕТОВОМ ОТНОШЕНИИ АБСТРАКТНО-ГЕОМЕТРИЧЕСКОЙ КОМПОЗИЦИИ С ГРАМОТНО ПОДОБРАННЫМИ ТОНАЛЬНЫМИ И ЦВЕТОВЫМИ ОТТЕНКАМИ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b6e5a"/>
                </a:solidFill>
                <a:latin typeface="Georgia"/>
              </a:rPr>
              <a:t>ОТРАБОТАТЬ УМЕНИЕ ПРИМЕНЯТЬ ЗНАНИЯ О ЦВЕТОВОЙ ГРАМОТЕ В ПРАКТИЧЕСКОЙ РАБОТЕ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ТРЕБОВАНИЯ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b6e5a"/>
                </a:solidFill>
                <a:latin typeface="Georgia"/>
              </a:rPr>
              <a:t>СОЗДАТЬ ИНТЕРЕСНУЮ КОМПОЗИЦИЮ С ИСПОЛЬЗОВАНИЕМ ФОРМ РАЗЛИЧНОЙ КОНФИГУРАЦИИ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b6e5a"/>
                </a:solidFill>
                <a:latin typeface="Georgia"/>
              </a:rPr>
              <a:t>ПРИМЕНИТЬ ЦВЕТОВЫЕ ГАРМОНИИ НЕ МЕХАНИЧЕСКИ, А ВЕРНО ПОДБИРАЯ ЦВЕТА ПО ТОНУ И НАСЫЩЕННОСТИ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b6e5a"/>
                </a:solidFill>
                <a:latin typeface="Georgia"/>
              </a:rPr>
              <a:t>ДОБИТЬСЯ ЦВЕТОВОГО РАВНОВЕСИЯ В КОМПОЗИЦИИ, НЕ ЗАБЫВАЯ О ЦЕНТРЕ КОМПОЗИЦИИ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Georgia"/>
              </a:rPr>
              <a:t>МАТЕРИАЛЫ И ИНСТРУМЕНТЫ:</a:t>
            </a:r>
            <a:r>
              <a:rPr b="1" i="1" lang="en-US" sz="1400" spc="-1" strike="noStrike">
                <a:solidFill>
                  <a:srgbClr val="c00000"/>
                </a:solidFill>
                <a:latin typeface="Georgia"/>
              </a:rPr>
              <a:t>  </a:t>
            </a:r>
            <a:r>
              <a:rPr b="1" i="1" lang="ru-RU" sz="1400" spc="-1" strike="noStrike">
                <a:solidFill>
                  <a:srgbClr val="eb6e5a"/>
                </a:solidFill>
                <a:latin typeface="Georgia"/>
              </a:rPr>
              <a:t>ЦВЕТОВЫЕ БУМАЖНЫЕ ЗАГОТОВКИ, КЛЕЙ, НОЖНИЦЫ, БУМАГА Ф А4, ЛИНЕЙКА, КАРАНДАШ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57160" y="285840"/>
            <a:ext cx="74678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b6e5a"/>
                </a:solidFill>
                <a:latin typeface="Georgia"/>
              </a:rPr>
              <a:t>ЦВЕТОВОЙ КРУГ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Содержимое 3" descr="двенадцатичастный цветовой круг иттен йоханнес"/>
          <p:cNvPicPr/>
          <p:nvPr/>
        </p:nvPicPr>
        <p:blipFill>
          <a:blip r:embed="rId1"/>
          <a:stretch/>
        </p:blipFill>
        <p:spPr>
          <a:xfrm>
            <a:off x="2714760" y="1500120"/>
            <a:ext cx="4833720" cy="47865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C:\Documents and Settings\Наталья\Рабочий стол\Отсканировано 31.01.2012 23-29.jpg"/>
          <p:cNvPicPr/>
          <p:nvPr/>
        </p:nvPicPr>
        <p:blipFill>
          <a:blip r:embed="rId2"/>
          <a:stretch/>
        </p:blipFill>
        <p:spPr>
          <a:xfrm>
            <a:off x="428760" y="1428840"/>
            <a:ext cx="17301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6e5a"/>
                </a:solidFill>
                <a:latin typeface="Georgia"/>
              </a:rPr>
              <a:t>НОРМАТИВНАЯ ТЕОРИЯ ГАРМОНИЧЕСКИХ СОЧЕТАНИЙ ЦВЕТОВЫХ ТОНОВ </a:t>
            </a:r>
            <a:br>
              <a:rPr sz="2800"/>
            </a:br>
            <a:r>
              <a:rPr b="1" i="1" lang="ru-RU" sz="2800" spc="-1" strike="noStrike">
                <a:solidFill>
                  <a:srgbClr val="eb6e5a"/>
                </a:solidFill>
                <a:latin typeface="Georgia"/>
              </a:rPr>
              <a:t>(МОДЕЛЬ ТРЕУГОЛЬНИКА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Picture 2" descr="C:\Documents and Settings\Наталья\Рабочий стол\Отсканировано 31.01.2012 23-41.jpg"/>
          <p:cNvPicPr/>
          <p:nvPr/>
        </p:nvPicPr>
        <p:blipFill>
          <a:blip r:embed="rId1"/>
          <a:stretch/>
        </p:blipFill>
        <p:spPr>
          <a:xfrm>
            <a:off x="1785960" y="1857240"/>
            <a:ext cx="51433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b6e5a"/>
                </a:solidFill>
                <a:latin typeface="Georgia"/>
              </a:rPr>
              <a:t>ГРУППЫ ГАРМОНИЧЕСКИХ СОЧЕТАНИЙ РОДСТВЕННЫХ ЦВЕТОВ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Picture 3" descr="C:\Documents and Settings\Наталья\Рабочий стол\Презентация к уроку\3.jpg"/>
          <p:cNvPicPr/>
          <p:nvPr/>
        </p:nvPicPr>
        <p:blipFill>
          <a:blip r:embed="rId1"/>
          <a:stretch/>
        </p:blipFill>
        <p:spPr>
          <a:xfrm>
            <a:off x="571680" y="4143240"/>
            <a:ext cx="2357280" cy="1500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C:\Documents and Settings\Наталья\Рабочий стол\Презентация к уроку\6.jpg"/>
          <p:cNvPicPr/>
          <p:nvPr/>
        </p:nvPicPr>
        <p:blipFill>
          <a:blip r:embed="rId2"/>
          <a:stretch/>
        </p:blipFill>
        <p:spPr>
          <a:xfrm>
            <a:off x="3429000" y="1714680"/>
            <a:ext cx="2357280" cy="1442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C:\Documents and Settings\Наталья\Рабочий стол\Презентация к уроку\11.jpg"/>
          <p:cNvPicPr/>
          <p:nvPr/>
        </p:nvPicPr>
        <p:blipFill>
          <a:blip r:embed="rId3"/>
          <a:stretch/>
        </p:blipFill>
        <p:spPr>
          <a:xfrm>
            <a:off x="3429000" y="4143240"/>
            <a:ext cx="2357280" cy="15004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C:\Documents and Settings\Наталья\Рабочий стол\Презентация к уроку\Отсканировано 22.01.2012 16-58 (5).jpg"/>
          <p:cNvPicPr/>
          <p:nvPr/>
        </p:nvPicPr>
        <p:blipFill>
          <a:blip r:embed="rId4"/>
          <a:stretch/>
        </p:blipFill>
        <p:spPr>
          <a:xfrm>
            <a:off x="6286680" y="1714680"/>
            <a:ext cx="2214360" cy="14284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C:\Documents and Settings\Наталья\Рабочий стол\Презентация к уроку\4.jpg"/>
          <p:cNvPicPr/>
          <p:nvPr/>
        </p:nvPicPr>
        <p:blipFill>
          <a:blip r:embed="rId5"/>
          <a:stretch/>
        </p:blipFill>
        <p:spPr>
          <a:xfrm>
            <a:off x="500040" y="1714680"/>
            <a:ext cx="2428920" cy="15001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1" descr="C:\Documents and Settings\Наталья\Рабочий стол\Картинки\8.jpg"/>
          <p:cNvPicPr/>
          <p:nvPr/>
        </p:nvPicPr>
        <p:blipFill>
          <a:blip r:embed="rId6"/>
          <a:stretch/>
        </p:blipFill>
        <p:spPr>
          <a:xfrm>
            <a:off x="6286680" y="4156200"/>
            <a:ext cx="22860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6e5a"/>
                </a:solidFill>
                <a:latin typeface="Georgia"/>
              </a:rPr>
              <a:t>НОРМАТИВНАЯ ТЕОРИЯ ГАРМОНИЧЕСКИХ СОЧЕТАНИЙ ЦВЕТОВЫХ ТОНОВ </a:t>
            </a:r>
            <a:br>
              <a:rPr sz="2800"/>
            </a:br>
            <a:r>
              <a:rPr b="1" i="1" lang="ru-RU" sz="2800" spc="-1" strike="noStrike">
                <a:solidFill>
                  <a:srgbClr val="eb6e5a"/>
                </a:solidFill>
                <a:latin typeface="Georgia"/>
              </a:rPr>
              <a:t>(МОДЕЛЬ ТРЕУГОЛЬНИКА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Picture 2" descr="C:\Documents and Settings\Наталья\Рабочий стол\Отсканировано 31.01.2012 23-41.jpg"/>
          <p:cNvPicPr/>
          <p:nvPr/>
        </p:nvPicPr>
        <p:blipFill>
          <a:blip r:embed="rId1"/>
          <a:stretch/>
        </p:blipFill>
        <p:spPr>
          <a:xfrm>
            <a:off x="1785960" y="1857240"/>
            <a:ext cx="51433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6e5a"/>
                </a:solidFill>
                <a:latin typeface="Georgia"/>
              </a:rPr>
              <a:t>ГРУППЫ ГАРМОНИЧЕСКИХ СОЧЕТАНИЙ РОДСТВЕННО-КОНТРАСТНЫХ ЦВЕТОВ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Picture 2" descr="C:\Documents and Settings\Наталья\Рабочий стол\Отсканировано 01.02.2012 0-15.jpg"/>
          <p:cNvPicPr/>
          <p:nvPr/>
        </p:nvPicPr>
        <p:blipFill>
          <a:blip r:embed="rId1"/>
          <a:stretch/>
        </p:blipFill>
        <p:spPr>
          <a:xfrm>
            <a:off x="1285920" y="1428840"/>
            <a:ext cx="63262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eb6e5a"/>
                </a:solidFill>
                <a:latin typeface="Georgia"/>
              </a:rPr>
              <a:t>ГРУППЫ ГАРМОНИЧЕСКИХ СОЧЕТАНИЙ РОДСТВЕННО-КОНТРАСТНЫХ ЦВЕТОВ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2" descr="C:\Documents and Settings\Наталья\Рабочий стол\11.jpg"/>
          <p:cNvPicPr/>
          <p:nvPr/>
        </p:nvPicPr>
        <p:blipFill>
          <a:blip r:embed="rId1"/>
          <a:stretch/>
        </p:blipFill>
        <p:spPr>
          <a:xfrm>
            <a:off x="500040" y="1714680"/>
            <a:ext cx="3786120" cy="20714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C:\Documents and Settings\Наталья\Рабочий стол\11.jpg"/>
          <p:cNvPicPr/>
          <p:nvPr/>
        </p:nvPicPr>
        <p:blipFill>
          <a:blip r:embed="rId2"/>
          <a:stretch/>
        </p:blipFill>
        <p:spPr>
          <a:xfrm>
            <a:off x="4786200" y="1714680"/>
            <a:ext cx="3500640" cy="4500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C:\Documents and Settings\Наталья\Рабочий стол\11.jpg"/>
          <p:cNvPicPr/>
          <p:nvPr/>
        </p:nvPicPr>
        <p:blipFill>
          <a:blip r:embed="rId3"/>
          <a:stretch/>
        </p:blipFill>
        <p:spPr>
          <a:xfrm>
            <a:off x="500040" y="4071960"/>
            <a:ext cx="386244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6e5a"/>
                </a:solidFill>
                <a:latin typeface="Georgia"/>
              </a:rPr>
              <a:t>НОРМАТИВНАЯ ТЕОРИЯ ГАРМОНИЧЕСКИХ СОЧЕТАНИЙ ЦВЕТОВЫХ ТОНОВ </a:t>
            </a:r>
            <a:br>
              <a:rPr sz="2800"/>
            </a:br>
            <a:r>
              <a:rPr b="1" i="1" lang="ru-RU" sz="2800" spc="-1" strike="noStrike">
                <a:solidFill>
                  <a:srgbClr val="eb6e5a"/>
                </a:solidFill>
                <a:latin typeface="Georgia"/>
              </a:rPr>
              <a:t>(МОДЕЛЬ ТРЕУГОЛЬНИКА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Picture 2" descr="C:\Documents and Settings\Наталья\Рабочий стол\Отсканировано 31.01.2012 23-41.jpg"/>
          <p:cNvPicPr/>
          <p:nvPr/>
        </p:nvPicPr>
        <p:blipFill>
          <a:blip r:embed="rId1"/>
          <a:stretch/>
        </p:blipFill>
        <p:spPr>
          <a:xfrm>
            <a:off x="1785960" y="1857240"/>
            <a:ext cx="51433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6e5a"/>
                </a:solidFill>
                <a:latin typeface="Georgia"/>
              </a:rPr>
              <a:t>ГРУППЫ ГАРМОНИЧЕСКИХ СОЧЕТАНИЙ ВЗАИМОДОПОЛНИТЕЛЬНЫХ ЦВЕТОВ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Picture 2" descr="C:\Documents and Settings\Наталья\Рабочий стол\Отсканировано 01.02.2012 0-39.jpg"/>
          <p:cNvPicPr/>
          <p:nvPr/>
        </p:nvPicPr>
        <p:blipFill>
          <a:blip r:embed="rId1"/>
          <a:stretch/>
        </p:blipFill>
        <p:spPr>
          <a:xfrm>
            <a:off x="1785960" y="1571760"/>
            <a:ext cx="5170320" cy="18507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C:\Documents and Settings\Наталья\Рабочий стол\Отсканировано 22.01.2012 16-58 (4).jpg"/>
          <p:cNvPicPr/>
          <p:nvPr/>
        </p:nvPicPr>
        <p:blipFill>
          <a:blip r:embed="rId2"/>
          <a:stretch/>
        </p:blipFill>
        <p:spPr>
          <a:xfrm>
            <a:off x="4000680" y="3643200"/>
            <a:ext cx="3857400" cy="2714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C:\Documents and Settings\Наталья\Рабочий стол\Отсканировано 01.02.2012 0-49.jpg"/>
          <p:cNvPicPr/>
          <p:nvPr/>
        </p:nvPicPr>
        <p:blipFill>
          <a:blip r:embed="rId3"/>
          <a:stretch/>
        </p:blipFill>
        <p:spPr>
          <a:xfrm>
            <a:off x="500040" y="3643200"/>
            <a:ext cx="3071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20:19:34Z</dcterms:created>
  <dc:creator>SamLab.ws</dc:creator>
  <dc:description/>
  <dc:language>en-US</dc:language>
  <cp:lastModifiedBy>SamLab.ws</cp:lastModifiedBy>
  <dcterms:modified xsi:type="dcterms:W3CDTF">2012-02-01T05:20:19Z</dcterms:modified>
  <cp:revision>24</cp:revision>
  <dc:subject/>
  <dc:title>Цветовые гармонии</dc:title>
</cp:coreProperties>
</file>