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020-FB86-4D30-816E-779DE988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0C0-E0F3-4909-8A7F-19A5DB85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2CF-D938-4D4E-BE86-9A9F1D39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559-3030-4520-8C2D-4FD97776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2144-965C-4793-A7C5-ADE79194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8D72-6962-45B1-ABBA-362C0E7B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E6FA-F7A3-406D-8A0A-6906B3DE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661E-98A7-4910-ABDD-56B91B51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7B7-9E3C-4E47-ACDD-CC98D7D2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A11-03C4-473C-B672-122D20A6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ABD8-16E9-4400-8B20-C13ED6F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2E8-4437-4F0D-B861-02EF691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3766-CB46-4A69-B2AD-8936E697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FE49-D391-476C-9266-07D5D7B9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8B6F-1F2F-4CB5-95D4-FA7D669D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0D6D-A6C4-434C-B245-08941269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66CA-D4B0-4004-8520-EB991FF5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F98-BD62-4568-99A0-9B69EA12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A6F-8AA5-4FC8-98D3-0B3A8004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6DF-B93E-441A-8589-26AD18D8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062-7039-4C08-86A3-4D654B9E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7DF-30DA-4EC1-B920-3A751D8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86A-FA94-47EC-A289-062463E8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160-2BA2-4D83-ADB9-279D04D9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29D1-CE28-41E0-9255-CF5C251FCB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769C-F4D4-4B17-AFE0-EE87D137B3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Горячие клавиши </a:t>
            </a:r>
            <a:br>
              <a:rPr sz="4800"/>
            </a:b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MS Window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орячие клавиши общего назнач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trl + Esc Win - Открыть меню «Пус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Start)Ctrl + Shift + Esc - Вызов «Диспетчера задач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E - Запуск «Проводника» (Expl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R - Отображение диалога «Запуск программы» (Run), аналог «Пуск» — «Выполни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D - Свернуть все окна или вернуться в исходное состояние (переключа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L - Блокировка рабочей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F1 - Вызов справки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Pause - Вызов окна «Свойства системы» (System 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F - Открыть окно поиска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Сtrl + F - Открыть окно поиска компьют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intscreen - Сделать скриншот всего эк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lt + Printscreen - Сделать скриншот текущего активно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 + Tab или Win + Shift + Tab - Выполняет переключение между кнопками на панели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6 или Tab - Перемещение между панелями. Например, между рабочим столом и панелью «Быстрый запус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A - Выделить всё (объекты, тек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C или Ctrl + Insert - Копировать в буфер обмена (объекты, тек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X или Shift + Delete - Вырезать в буфер обмена (объекты, тек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V или Shift + Insert Вставить из буфера обмена (объекты, тек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N - Создать новый документ, проект или подобное действие. В Internet Explorer это приводит к открытию нового окна с копией содержимого текущего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S - Сохранить текущий документ, проект и 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O - Вызвать диалог выбора файла для открытия документа, проекта и 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P – Пе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Z - Отменить последне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ift - Блокировка автозапуска CD-ROM (удерживать, пока привод читает только что вставленный дис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t + Enter - Переход в полноэкранный режим и обратно (переключатель; например, в Windows Media Player или в окне командного интерпретато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бота с тексто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A - Выделить вс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C или Ctrl + Insert – Коп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X или Shift + Delete – Выре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V или Shift + Insert – В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← или Ctrl + →Переход по словам в тексте. Работает не только в текстовых редакторах. Например, очень удобно использовать в адресной строке брауз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hift + ←или Shift + → или Shift + ↑ или Shift + ↓ - Выделение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Shift + ← или Ctrl + Shift + → - Выделение текста по сло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ome или End или Ctrl + Homе или Ctrl + End - Перемещение в начало - конец строки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trl + Home или Ctrl + End - Перемещение в начало-конец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бота с файлам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ift + F10или Menu - Отображение контекстного меню текущего объекта (аналогично нажатию правой кнопкой мыш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lt + Enter - Вызов «Свойств объе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2 - Переименование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таскивание с Ctrl - Копирование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таскивание с Shift - Перемещение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таскивание с Ctrl + Shift - Создание ярлыка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лчки с Ctrl - Выделение нескольких объектов в произволь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лчки с Shift - Выделение нескольких смеж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ift + Delete - Безвозвратное удаление объекта, не помещая его в корз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ециальные возможн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те клавишу SHIFT пять раз: включение и отключение залипания клави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рживайте нажатой правую клавишу SHIFT восемь секунд: включение и отключение фильтрации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рживайте нажатой клавишу Num Lock пять секунд: включение и отключение озвучивания пере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t слева + Shift слева + Num Lock: включение и отключение управления указателем с 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t слева + Shift слева + PRINT SCREEN: включение и отключение высокой контрас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6:11:14Z</dcterms:created>
  <dc:creator>gubkina_tp</dc:creator>
  <dc:description/>
  <dc:language>en-US</dc:language>
  <cp:lastModifiedBy>gubkina_tp</cp:lastModifiedBy>
  <dcterms:modified xsi:type="dcterms:W3CDTF">2012-02-20T07:09:20Z</dcterms:modified>
  <cp:revision>2</cp:revision>
  <dc:subject/>
  <dc:title>Горячие клавиши  MS Windows</dc:title>
</cp:coreProperties>
</file>