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639-9E06-4A65-BD1E-4D2AA821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9D8-5D8E-48E5-9BCB-1E3F6051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10C-615F-4ADD-9A6F-41EB6B91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B13-9304-4D48-BE46-3C515541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4AF4-2B60-49C2-A8C5-F6963A65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FAE9-9334-43D2-9868-D36BC0E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1F8A-7183-4227-B5FF-8D6C16DC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A5AA-6800-4D5E-B82E-E7F80FD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0B51-3128-4494-9D37-8B3B761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6244-6011-482F-B28F-1B662D73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7455-35F3-4154-AE70-61797B37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754-B5B0-4573-A771-77126517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1B54-3577-495A-9597-5141B66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544-A3A3-4103-8601-8D4FD7DE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5A0-0893-46B2-9D12-EC521BA5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44D5-68E1-45AA-B840-A8952525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E125-A03B-4BD8-B09A-11D1EFD7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AB6-E5A8-4B6D-A136-52E7ADD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402-1076-4700-8F4C-9EA766DE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49F-5B9A-49E5-AA62-87351375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72D-8DFB-4C48-9740-4EAC6693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6F9-737F-4D47-A531-47E4B83B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108-984A-4D81-A45C-E7742C20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E29-69D4-4D60-943E-05A8BA5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925-F078-4C6B-A447-5F61FE56E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9094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9094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58DF-3983-426F-9A54-556955DC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732a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094b8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3732a0"/>
                </a:solidFill>
                <a:latin typeface="Arial Black"/>
              </a:rPr>
              <a:t>Правила работы с текстом</a:t>
            </a:r>
            <a:r>
              <a:rPr b="0" i="1" lang="en-US" sz="4100" spc="-1" strike="noStrike">
                <a:solidFill>
                  <a:srgbClr val="3732a0"/>
                </a:solidFill>
                <a:latin typeface="Arial Black"/>
              </a:rPr>
              <a:t> </a:t>
            </a:r>
            <a:endParaRPr b="0" i="1" lang="en-US" sz="4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Февраль – 201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Автор: Т.П. Губкин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69608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Индексы и показател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 между собой и от предшествующих и последующих элементов набора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не должны быть разделены пробелом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Н</a:t>
            </a:r>
            <a:r>
              <a:rPr b="0" lang="en-US" sz="2900" spc="-1" strike="noStrike" baseline="-25000">
                <a:solidFill>
                  <a:srgbClr val="3732a0"/>
                </a:solidFill>
                <a:latin typeface="Arial Black"/>
              </a:rPr>
              <a:t>2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О, м</a:t>
            </a:r>
            <a:r>
              <a:rPr b="0" lang="en-US" sz="2900" spc="-1" strike="noStrike" baseline="30000">
                <a:solidFill>
                  <a:srgbClr val="3732a0"/>
                </a:solidFill>
                <a:latin typeface="Arial Black"/>
              </a:rPr>
              <a:t>3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/с) 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24360" y="549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D20-645B-4B71-856B-35B3131034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69608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Нельзя</a:t>
            </a: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 набирать в </a:t>
            </a: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разных строках фамилии и инициалы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, к ним относящиеся, а также отделять один инициал от другого. 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24360" y="549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221-0DB6-4C75-BA20-0EE7F895F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3300"/>
                </a:solidFill>
                <a:latin typeface="Arial Black"/>
              </a:rPr>
              <a:t>Не следует</a:t>
            </a:r>
            <a:r>
              <a:rPr b="1" lang="ru-RU" sz="3300" spc="-1" strike="noStrike">
                <a:solidFill>
                  <a:srgbClr val="3732a0"/>
                </a:solidFill>
                <a:latin typeface="Arial Black"/>
              </a:rPr>
              <a:t> оставлять в </a:t>
            </a:r>
            <a:r>
              <a:rPr b="1" lang="ru-RU" sz="3300" spc="-1" strike="noStrike">
                <a:solidFill>
                  <a:srgbClr val="ff3300"/>
                </a:solidFill>
                <a:latin typeface="Arial Black"/>
              </a:rPr>
              <a:t>конце строки</a:t>
            </a:r>
            <a:r>
              <a:rPr b="1" lang="ru-RU" sz="3300" spc="-1" strike="noStrike">
                <a:solidFill>
                  <a:srgbClr val="3732a0"/>
                </a:solidFill>
                <a:latin typeface="Arial Black"/>
              </a:rPr>
              <a:t> предлоги и союзы (</a:t>
            </a:r>
            <a:r>
              <a:rPr b="0" lang="ru-RU" sz="3300" spc="-1" strike="noStrike">
                <a:solidFill>
                  <a:srgbClr val="3732a0"/>
                </a:solidFill>
                <a:latin typeface="Arial Black"/>
              </a:rPr>
              <a:t>из одной-трех букв), начинающие предложение, а также однобуквенные союзы и предлоги в середине предложений. 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08360" y="54936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FD2-292F-4332-B112-A68EEDD6B5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Последняя строка в абзаце не должна быть слишком короткой.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Стараться избегать оставления в строке или переноса двух букв. Текст концевой строки должен быть в 1,5-2 раза больше размера абзацного отступа, т.е. содержать не менее 5-7 букв. Если этого не получается, необходимо вогнать остаток текста в предыдущие строки или выгнать из них часть текста. Это правило не относится к концевым строкам в математических рассуждениях, когда текст может быть совсем коротким, например "и", "или" и т.п. 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4000" y="333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EED-787B-4B95-9243-1700DB924E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915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Знаки 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процента (%) 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применяют только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с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относящимися к ним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числам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, от которых они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не отделяются.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Знак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градуса (°), минуты ('), секунды ('')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 предыдущих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чисел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не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должны быть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делены 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пробелом, а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 последующих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чисел должны быть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делены 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пробелом (10° 15').  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4000" y="333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6EB-95CB-49A9-9C8A-B60A8EC381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Формулы 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в текстовых строках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 набора научно-технических текстов должны быть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делены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от текста на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пробел или на двойной пробел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. </a:t>
            </a:r>
            <a:br>
              <a:rPr sz="2900"/>
            </a:b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Формулы, следующие в текстовой строке одна за другой, должны быть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отделены друг от друга удвоенными пробелами.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4000" y="333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566-1148-42E1-B653-041CF6D15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 Black"/>
              </a:rPr>
              <a:t>Знаки</a:t>
            </a:r>
            <a:r>
              <a:rPr b="1" lang="en-US" sz="2500" spc="-1" strike="noStrike">
                <a:solidFill>
                  <a:srgbClr val="3732a0"/>
                </a:solidFill>
                <a:latin typeface="Arial Black"/>
              </a:rPr>
              <a:t> номера (№) и параграфа (§)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 применяют только с </a:t>
            </a:r>
            <a:br>
              <a:rPr sz="2500"/>
            </a:b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относящимися к ним числами и </a:t>
            </a:r>
            <a:r>
              <a:rPr b="0" lang="en-US" sz="2500" spc="-1" strike="noStrike">
                <a:solidFill>
                  <a:srgbClr val="ff3300"/>
                </a:solidFill>
                <a:latin typeface="Arial Black"/>
              </a:rPr>
              <a:t>отделяются пробелом от них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 и от остального текста с двух сторон. Сдвоенные знаки набираются вплотную друг к другу. Если к знаку относится несколько чисел, то между собой они отделяются пробелами. Нельзя в разных строках набирать знаки и относящиеся к ним цифры.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4000" y="333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AE8-E7B1-45F9-9483-D27272E433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В русском языке различают следующие виды сокращений: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 </a:t>
            </a:r>
            <a:br>
              <a:rPr sz="3300"/>
            </a:b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буквенная аббревиатура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— сокращенное слово, составленное из первых букв слов, входящих в полное название (СССР, НДР, РФ, вуз);</a:t>
            </a:r>
            <a:r>
              <a:rPr b="0" lang="en-US" sz="2100" spc="-1" strike="noStrike">
                <a:solidFill>
                  <a:srgbClr val="3732a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4000" y="33336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EEB-1E32-474C-99EE-7F021B90A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сложносокращенные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слова, составленные из частей сокращенных слов (колхоз) или усеченных и полных слов (Моссовет), </a:t>
            </a:r>
            <a:br>
              <a:rPr sz="3300"/>
            </a:b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B2B-0F5E-4DFD-B176-CAFF4887A5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1699920"/>
            <a:ext cx="7696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732a0"/>
                </a:solidFill>
                <a:latin typeface="Arial Black"/>
              </a:rPr>
              <a:t>и </a:t>
            </a:r>
            <a:r>
              <a:rPr b="0" lang="ru-RU" sz="3300" spc="-1" strike="noStrike">
                <a:solidFill>
                  <a:srgbClr val="ff3300"/>
                </a:solidFill>
                <a:latin typeface="Arial Black"/>
              </a:rPr>
              <a:t>графические </a:t>
            </a:r>
            <a:r>
              <a:rPr b="0" lang="ru-RU" sz="3300" spc="-1" strike="noStrike">
                <a:solidFill>
                  <a:srgbClr val="3732a0"/>
                </a:solidFill>
                <a:latin typeface="Arial Black"/>
              </a:rPr>
              <a:t>сокращения по начальным буквам (г. — год), по частям слов (см. — смотри), по характерным буквам (млрд — миллиард), а также по начальным и конечным буквам (ф-ка — фабрика).</a:t>
            </a:r>
            <a:r>
              <a:rPr b="0" lang="ru-RU" sz="2100" spc="-1" strike="noStrike">
                <a:solidFill>
                  <a:srgbClr val="3732a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9BA-8E8C-464A-9B2F-F19FB4E3D3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Точка в конце заголовка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 и подзаголовках, выключенных отдельной строкой,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не ставится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. Если заголовок состоит из нескольких предложений, то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точка не ставится после последнего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из них.  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24360" y="549360"/>
            <a:ext cx="865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DDD-EFB6-4812-B301-5D6E6F5513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1483920"/>
            <a:ext cx="7696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Кроме того, в текстах применяют буквенные обозначения единиц физических величин. Все </a:t>
            </a:r>
            <a:r>
              <a:rPr b="0" lang="en-US" sz="2500" spc="-1" strike="noStrike">
                <a:solidFill>
                  <a:srgbClr val="ff3300"/>
                </a:solidFill>
                <a:latin typeface="Arial Black"/>
              </a:rPr>
              <a:t>буквенные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 аббревиатуры набирают прямым шрифтом </a:t>
            </a:r>
            <a:r>
              <a:rPr b="0" lang="en-US" sz="2500" spc="-1" strike="noStrike">
                <a:solidFill>
                  <a:srgbClr val="ff3300"/>
                </a:solidFill>
                <a:latin typeface="Arial Black"/>
              </a:rPr>
              <a:t>без точек и без разбивки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 между буквами, </a:t>
            </a:r>
            <a:r>
              <a:rPr b="0" lang="en-US" sz="2500" spc="-1" strike="noStrike">
                <a:solidFill>
                  <a:srgbClr val="ff3300"/>
                </a:solidFill>
                <a:latin typeface="Arial Black"/>
              </a:rPr>
              <a:t>сложносокращенные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 слова и графические сокращения набирают </a:t>
            </a:r>
            <a:r>
              <a:rPr b="0" lang="en-US" sz="2500" spc="-1" strike="noStrike">
                <a:solidFill>
                  <a:srgbClr val="ff3300"/>
                </a:solidFill>
                <a:latin typeface="Arial Black"/>
              </a:rPr>
              <a:t>как обычный текст.</a:t>
            </a:r>
            <a:r>
              <a:rPr b="0" lang="en-US" sz="2500" spc="-1" strike="noStrike">
                <a:solidFill>
                  <a:srgbClr val="3732a0"/>
                </a:solidFill>
                <a:latin typeface="Arial Black"/>
              </a:rPr>
              <a:t> В выделенных шрифтами текстах все эти сокращения набирают тем же, выделительным шрифтом.</a:t>
            </a:r>
            <a:endParaRPr b="0" lang="en-US" sz="25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31-F905-455F-A378-972C62D2A5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696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732a0"/>
                </a:solidFill>
                <a:latin typeface="Arial Black"/>
              </a:rPr>
              <a:t>При наборе текста одного абзаца клавиша «Перевод строки» («</a:t>
            </a:r>
            <a:r>
              <a:rPr b="1" lang="ru-RU" sz="3300" spc="-1" strike="noStrike">
                <a:solidFill>
                  <a:srgbClr val="ff3300"/>
                </a:solidFill>
                <a:latin typeface="Arial Black"/>
              </a:rPr>
              <a:t>Enter</a:t>
            </a:r>
            <a:r>
              <a:rPr b="1" lang="ru-RU" sz="3300" spc="-1" strike="noStrike">
                <a:solidFill>
                  <a:srgbClr val="3732a0"/>
                </a:solidFill>
                <a:latin typeface="Arial Black"/>
              </a:rPr>
              <a:t>») нажимается только </a:t>
            </a:r>
            <a:r>
              <a:rPr b="1" lang="ru-RU" sz="3300" spc="-1" strike="noStrike">
                <a:solidFill>
                  <a:srgbClr val="ff3300"/>
                </a:solidFill>
                <a:latin typeface="Arial Black"/>
              </a:rPr>
              <a:t>в конце этого абзаца</a:t>
            </a:r>
            <a:r>
              <a:rPr b="1" lang="ru-RU" sz="3300" spc="-1" strike="noStrike">
                <a:solidFill>
                  <a:srgbClr val="3732a0"/>
                </a:solidFill>
                <a:latin typeface="Arial Black"/>
              </a:rPr>
              <a:t>. </a:t>
            </a:r>
            <a:r>
              <a:rPr b="0" lang="ru-RU" sz="3300" spc="-1" strike="noStrike">
                <a:solidFill>
                  <a:srgbClr val="3732a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35280" y="47628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13B-5CE9-4357-B567-EBE953F119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696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Между словами нужно ставить ровно один пробел.</a:t>
            </a:r>
            <a:br>
              <a:rPr sz="2900"/>
            </a:b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 Равномерное распределение слов в строке текстовым процессором выполняется автоматически.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635280" y="47628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8BD-9F7C-4378-9EB2-D97FC46EE2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4436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Абзацный отступ (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красную строку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) устанавливать с помощью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пробелов запрещено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; для этого используются возможности текстового процессора (например, можно использовать бегунки на горизонтальной полосе прокрутки или табулятор).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35280" y="47628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202-3054-4EBB-B0D1-57DBDB32CC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696080" cy="55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3300"/>
                </a:solidFill>
                <a:latin typeface="Arial Black"/>
              </a:rPr>
              <a:t>Знак неразрывный пробел</a:t>
            </a:r>
            <a:r>
              <a:rPr b="0" lang="ru-RU" sz="2900" spc="-1" strike="noStrike">
                <a:solidFill>
                  <a:srgbClr val="3732a0"/>
                </a:solidFill>
                <a:latin typeface="Arial Black"/>
              </a:rPr>
              <a:t> (Вставка → Символ, вкладка Специальные знаки или комбинация клавиш CTRL+SHIFT+пробел) 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препятствует</a:t>
            </a:r>
            <a:r>
              <a:rPr b="0" lang="ru-RU" sz="2900" spc="-1" strike="noStrike">
                <a:solidFill>
                  <a:srgbClr val="3732a0"/>
                </a:solidFill>
                <a:latin typeface="Arial Black"/>
              </a:rPr>
              <a:t> символам, между которыми он поставлен, </a:t>
            </a: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располагаться на разных строчках</a:t>
            </a:r>
            <a:r>
              <a:rPr b="0" lang="ru-RU" sz="2900" spc="-1" strike="noStrike">
                <a:solidFill>
                  <a:srgbClr val="3732a0"/>
                </a:solidFill>
                <a:latin typeface="Arial Black"/>
              </a:rPr>
              <a:t>, и сохраняется фиксированным при любом выравнивании абзаца (не может увеличиваться, в отличие от обычного пробела).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1A2-4B92-4986-8723-4979B166F9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732a0"/>
                </a:solidFill>
                <a:latin typeface="Arial Black"/>
              </a:rPr>
              <a:t>Выделением называют особое оформление отдельных слов или частей текста, которое подчеркивает их значение. </a:t>
            </a:r>
            <a:r>
              <a:rPr b="1" lang="en-US" sz="2100" spc="-1" strike="noStrike">
                <a:solidFill>
                  <a:srgbClr val="3732a0"/>
                </a:solidFill>
                <a:latin typeface="Arial Black"/>
              </a:rPr>
              <a:t>ВСЕ ВИДЫ ВЫДЕЛЕНИЙ ДЕЛЯТ НА ТРИ ГРУППЫ</a:t>
            </a:r>
            <a:br>
              <a:rPr sz="2100"/>
            </a:br>
            <a:endParaRPr b="0" lang="en-US" sz="21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шрифтовые выде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ыполняемые путем замены характера или начертания шрифта, — набор курсивом, полужирным, жирным, полужирным курсивом, прописными или капительными буквами, шрифтами другого кегля или даже другой гарнитуры;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 нешрифтовые выде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ыполняемые путем изменения расстояний между буквами (набор вразрядку) или между строками набора (дополнительные отбивки отдельных строк), изменения формата набора (набор «в красную строку», набор с одно- или двусторонними втяжками), подчеркивания текста тонкими или полужирными линейками или заключения отдельных частей текста в рамки и т. п.; 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- комбинированные выде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выполняемые одновременно двумя способами, например, набор полужирным вразрядку, набор полужирным шрифтом увеличенного кегля с выключкой в «красную строку» и дополнительными отбивками, набор курсивом с заключением текста в рамку и т. п.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E3A-469D-4D4B-ABB1-867D5C6F38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47970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 </a:t>
            </a: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Шрифтовые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 выделения (курсивом, полужирным, жирным) должны быть выполнены шрифтами </a:t>
            </a: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той же гарнитуры и кегля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, что и основной текст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. </a:t>
            </a:r>
            <a:br>
              <a:rPr sz="2900"/>
            </a:b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Знаки препинания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, следующие за выделенной частью текста, должны быть набраны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шрифтом основного текста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.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635280" y="47628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459-A972-480A-A406-9D2993149C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696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В текстовом наборе </a:t>
            </a: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абзацные отступы</a:t>
            </a: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 должны быть строго </a:t>
            </a: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одинаковыми 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во всем документе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, независимо от кегля набора отдельных частей текста. 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35280" y="476280"/>
            <a:ext cx="14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6B5-5D96-4C0C-BB9E-F9AD3BC2B7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6960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3300"/>
                </a:solidFill>
                <a:latin typeface="Arial Black"/>
              </a:rPr>
              <a:t>Знак тире, или длинное тире</a:t>
            </a:r>
            <a:r>
              <a:rPr b="1" lang="ru-RU" sz="2900" spc="-1" strike="noStrike">
                <a:solidFill>
                  <a:srgbClr val="3732a0"/>
                </a:solidFill>
                <a:latin typeface="Arial Black"/>
              </a:rPr>
              <a:t>,</a:t>
            </a:r>
            <a:r>
              <a:rPr b="0" lang="ru-RU" sz="2900" spc="-1" strike="noStrike">
                <a:solidFill>
                  <a:srgbClr val="3732a0"/>
                </a:solidFill>
                <a:latin typeface="Arial Black"/>
              </a:rPr>
              <a:t> может быть набрано с помощью одновременного нажатия комбинации клавиш </a:t>
            </a:r>
            <a:r>
              <a:rPr b="0" lang="ru-RU" sz="2900" spc="-1" strike="noStrike">
                <a:solidFill>
                  <a:srgbClr val="ff3300"/>
                </a:solidFill>
                <a:latin typeface="Arial Black"/>
              </a:rPr>
              <a:t>CTRL+SHIFT+серый минус</a:t>
            </a:r>
            <a:r>
              <a:rPr b="0" lang="ru-RU" sz="2900" spc="-1" strike="noStrike">
                <a:solidFill>
                  <a:srgbClr val="3732a0"/>
                </a:solidFill>
                <a:latin typeface="Arial Black"/>
              </a:rPr>
              <a:t> (серый минус располагается на цифровой клавиатуре, справа) или Вставка → Символ, вкладка Специальные знаки.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C07-AB38-47FE-9170-9B09FB4B79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696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 </a:t>
            </a: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Порядковый номер</a:t>
            </a:r>
            <a:r>
              <a:rPr b="1" lang="en-US" sz="3300" spc="-1" strike="noStrike">
                <a:solidFill>
                  <a:srgbClr val="3732a0"/>
                </a:solidFill>
                <a:latin typeface="Arial Black"/>
              </a:rPr>
              <a:t> всех видов </a:t>
            </a:r>
            <a:r>
              <a:rPr b="1" lang="en-US" sz="3300" spc="-1" strike="noStrike">
                <a:solidFill>
                  <a:srgbClr val="ff3300"/>
                </a:solidFill>
                <a:latin typeface="Arial Black"/>
              </a:rPr>
              <a:t>заголовков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, набираемый в одной строке с текстом, должен быть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отделен пробелом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независимо от того, есть ли после номера точка.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24360" y="476280"/>
            <a:ext cx="86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87B-FF90-4CD1-AEFE-1D11F7533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69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3300"/>
                </a:solidFill>
                <a:latin typeface="Arial Black"/>
              </a:rPr>
              <a:t>Точка не ставится</a:t>
            </a:r>
            <a:r>
              <a:rPr b="1" lang="en-US" sz="3700" spc="-1" strike="noStrike">
                <a:solidFill>
                  <a:srgbClr val="3732a0"/>
                </a:solidFill>
                <a:latin typeface="Arial Black"/>
              </a:rPr>
              <a:t> в конце </a:t>
            </a:r>
            <a:r>
              <a:rPr b="1" lang="en-US" sz="3700" spc="-1" strike="noStrike">
                <a:solidFill>
                  <a:srgbClr val="ff3300"/>
                </a:solidFill>
                <a:latin typeface="Arial Black"/>
              </a:rPr>
              <a:t>подрисуночной </a:t>
            </a:r>
            <a:r>
              <a:rPr b="1" lang="en-US" sz="3700" spc="-1" strike="noStrike">
                <a:solidFill>
                  <a:srgbClr val="3732a0"/>
                </a:solidFill>
                <a:latin typeface="Arial Black"/>
              </a:rPr>
              <a:t>подписи, в </a:t>
            </a:r>
            <a:r>
              <a:rPr b="1" lang="en-US" sz="3700" spc="-1" strike="noStrike">
                <a:solidFill>
                  <a:srgbClr val="ff3300"/>
                </a:solidFill>
                <a:latin typeface="Arial Black"/>
              </a:rPr>
              <a:t>заголовке таблицы</a:t>
            </a:r>
            <a:r>
              <a:rPr b="1" lang="en-US" sz="3700" spc="-1" strike="noStrike">
                <a:solidFill>
                  <a:srgbClr val="3732a0"/>
                </a:solidFill>
                <a:latin typeface="Arial Black"/>
              </a:rPr>
              <a:t> и внутри нее</a:t>
            </a:r>
            <a:r>
              <a:rPr b="0" lang="en-US" sz="3700" spc="-1" strike="noStrike">
                <a:solidFill>
                  <a:srgbClr val="3732a0"/>
                </a:solidFill>
                <a:latin typeface="Arial Black"/>
              </a:rPr>
              <a:t>.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67280" y="549360"/>
            <a:ext cx="647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2EE-9EC0-4F4B-BF97-89BF7B1B5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133720"/>
            <a:ext cx="7696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При отделении десятичных долей от целых чисел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лучше ставить запятую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(0,158), а не точку (0.158).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0000" y="54936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502-4CDF-4FD6-A2AE-AAFB5385C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6327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Перед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 знаком препинания </a:t>
            </a: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пробел не ставится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 (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исключение составляют открывающиеся парные знаки, например, скобки, кавычки).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После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знака препинания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пробел обязателен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если этот знак не стоит в конце абзаца). 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24360" y="549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BA4-17D8-4316-938D-2A826F2F8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133720"/>
            <a:ext cx="7696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Тире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выделяется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пробелами с двух сторон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. </a:t>
            </a:r>
            <a:br>
              <a:rPr sz="3300"/>
            </a:b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Дефис</a:t>
            </a:r>
            <a:r>
              <a:rPr b="0" lang="en-US" sz="3300" spc="-1" strike="noStrike">
                <a:solidFill>
                  <a:srgbClr val="3732a0"/>
                </a:solidFill>
                <a:latin typeface="Arial Black"/>
              </a:rPr>
              <a:t> пробелами </a:t>
            </a:r>
            <a:r>
              <a:rPr b="0" lang="en-US" sz="3300" spc="-1" strike="noStrike">
                <a:solidFill>
                  <a:srgbClr val="ff3300"/>
                </a:solidFill>
                <a:latin typeface="Arial Black"/>
              </a:rPr>
              <a:t>не выделяется. </a:t>
            </a:r>
            <a:endParaRPr b="0" lang="en-US" sz="33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24360" y="549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43F-E277-412A-81C6-8E61EDF2BB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20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Arial Black"/>
              </a:rPr>
              <a:t>Числительные</a:t>
            </a:r>
            <a:r>
              <a:rPr b="1" lang="en-US" sz="2900" spc="-1" strike="noStrike">
                <a:solidFill>
                  <a:srgbClr val="3732a0"/>
                </a:solidFill>
                <a:latin typeface="Arial Black"/>
              </a:rPr>
              <a:t> порядковые и количественные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 выражаются в простом тексте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словам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обычно, однозначные при наличии сокращенных наименований),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цифрам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многозначные и при наличии сокращенных обозначений) и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смешанным способом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после десятков тысяч часто применяются выражения типа 25 тыс.)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24360" y="549360"/>
            <a:ext cx="72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ADE-B8F4-45D4-9F6E-19E347E50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69608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Числительные в косвенных падежах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набирают с так называемыми </a:t>
            </a:r>
            <a:r>
              <a:rPr b="0" lang="en-US" sz="2900" spc="-1" strike="noStrike">
                <a:solidFill>
                  <a:srgbClr val="ff3300"/>
                </a:solidFill>
                <a:latin typeface="Arial Black"/>
              </a:rPr>
              <a:t>наращениями</a:t>
            </a:r>
            <a:r>
              <a:rPr b="0" lang="en-US" sz="2900" spc="-1" strike="noStrike">
                <a:solidFill>
                  <a:srgbClr val="3732a0"/>
                </a:solidFill>
                <a:latin typeface="Arial Black"/>
              </a:rPr>
              <a:t> (6-го). В наборе встречаются арабские и римские цифры.</a:t>
            </a:r>
            <a:endParaRPr b="0" lang="en-US" sz="2900" spc="-1" strike="noStrike">
              <a:solidFill>
                <a:srgbClr val="3732a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94B-E724-4A28-B81F-B803DBED93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1:36:07Z</dcterms:created>
  <dc:creator>gubkina_tp</dc:creator>
  <dc:description/>
  <dc:language>en-US</dc:language>
  <cp:lastModifiedBy>gubkina_tp</cp:lastModifiedBy>
  <dcterms:modified xsi:type="dcterms:W3CDTF">2012-03-02T06:21:15Z</dcterms:modified>
  <cp:revision>5</cp:revision>
  <dc:subject/>
  <dc:title>ТЕХНИЧЕСКИЕ ТРЕБОВАНИЯ К НАБОРУ ТЕКСТА </dc:title>
</cp:coreProperties>
</file>