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6.gif" ContentType="image/gif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9E3E-BE2E-42B7-9F3C-8EC1818E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6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36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4104-751A-4E27-B8ED-FB7F5189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401220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33B4-E1AD-47C8-90D3-133A3B63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70028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70028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401220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401220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91D5-22F2-4812-A1A5-230C9259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70DD-E048-4FCA-98DE-A8973BE8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36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BD79-C85A-485E-B500-57966CE7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6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D257-DF48-4829-8FF8-128E3D93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ACA6-0973-4975-B07A-A7FA09DC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FD2D-DC15-4B78-BCB6-71D58F84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7127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D9F1-0753-4C7B-AADF-6C6293BB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CE4A-1E96-47E2-B5B5-F6E78B04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36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1371-0728-499A-A770-AB4FCBED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2640" y="401220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B46E-04E2-44E6-AD18-A04A4421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36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6A55-1C00-4B5A-819D-959CEF5F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6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36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C375-62ED-4718-8191-53A21A1F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2640" y="401220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22AD-C84F-4885-A523-E7AB1CFC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4640" y="170028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2080" y="170028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4640" y="401220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2080" y="4012200"/>
            <a:ext cx="269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A97A-42FB-4539-BD5A-748087D9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6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F3F-C481-464F-95DD-E46A9CFE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A152-830A-4BA4-9423-AC30D3FD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F61-09F2-4F07-B624-11C670A4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7127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59F-F0C8-450C-88E2-BA080B6B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AAC-0A3F-4012-B560-4ABDE3A3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401220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0A17-242C-472C-8884-EB21BB2C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700280"/>
            <a:ext cx="40809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36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570D-44AE-48EF-98F3-408F613C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362800" cy="442584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333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3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333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333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C799-EFF9-4F67-B369-950DC2B05BBB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65760" y="-47880"/>
            <a:ext cx="1253520" cy="1602000"/>
            <a:chOff x="365760" y="-47880"/>
            <a:chExt cx="1253520" cy="1602000"/>
          </a:xfrm>
        </p:grpSpPr>
        <p:sp>
          <p:nvSpPr>
            <p:cNvPr id="6" name=""/>
            <p:cNvSpPr/>
            <p:nvPr/>
          </p:nvSpPr>
          <p:spPr>
            <a:xfrm>
              <a:off x="466560" y="547560"/>
              <a:ext cx="1152720" cy="792360"/>
            </a:xfrm>
            <a:prstGeom prst="rtTriangle">
              <a:avLst/>
            </a:prstGeom>
            <a:solidFill>
              <a:srgbClr val="ffffff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19938000">
              <a:off x="466560" y="115560"/>
              <a:ext cx="863640" cy="647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55640" y="906480"/>
              <a:ext cx="718920" cy="64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99cc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FAC3-E302-4333-9674-8ED33E3165FF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00"/>
                </a:solidFill>
                <a:latin typeface="Century Gothic"/>
              </a:rPr>
              <a:t>Click to edit the outline text format</a:t>
            </a:r>
            <a:endParaRPr b="0" lang="en-US" sz="2500" spc="-1" strike="noStrike">
              <a:solidFill>
                <a:srgbClr val="3333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3333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333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3333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3333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 rot="16200000">
            <a:off x="1296000" y="-207000"/>
            <a:ext cx="6624720" cy="784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45117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Times New Roman"/>
              </a:rPr>
              <a:t>Элементы конструирования и дизайна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 rot="16200000">
            <a:off x="1889640" y="133920"/>
            <a:ext cx="6120000" cy="666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3231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c7dfd3">
                      <a:alpha val="50000"/>
                    </a:srgbClr>
                  </a:outerShdw>
                </a:effectLst>
                <a:latin typeface="Times New Roman"/>
              </a:rPr>
              <a:t>Успехов в творческом поиске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c7dfd3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875040" y="2205000"/>
            <a:ext cx="1728720" cy="259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1700280"/>
            <a:ext cx="3467160" cy="442584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Создать макет простой геометрической фигуры (материал исполнения любой)</a:t>
            </a:r>
            <a:endParaRPr b="0" lang="en-US" sz="28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95640" y="54936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c7dfd3">
                      <a:alpha val="50000"/>
                    </a:srgbClr>
                  </a:outerShdw>
                </a:effectLst>
                <a:latin typeface="Times New Roman"/>
              </a:rPr>
              <a:t>Домашнее задани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c7dfd3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356000" y="1773360"/>
            <a:ext cx="4249800" cy="424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258920" y="2205000"/>
            <a:ext cx="6842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c7dfd3">
                      <a:alpha val="50000"/>
                    </a:srgbClr>
                  </a:outerShdw>
                </a:effectLst>
                <a:latin typeface="Times New Roman"/>
              </a:rPr>
              <a:t>Спасибо за урок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c7dfd3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" dur="50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" dur="50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362800" cy="442584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формировать знания о элементах технического конструирования и дизайна.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развивать пространственное мышление и память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воспитание стремления добросовестно и рационально выполнять учебные задания, развитие познавательного интереса и логического мышления.</a:t>
            </a:r>
            <a:endParaRPr b="0" lang="en-US" sz="32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708360" y="549360"/>
            <a:ext cx="468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c7dfd3">
                      <a:alpha val="50000"/>
                    </a:srgbClr>
                  </a:outerShdw>
                </a:effectLst>
                <a:latin typeface="Times New Roman"/>
              </a:rPr>
              <a:t>Цели и задач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c7dfd3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195640" y="54936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c7dfd3">
                      <a:alpha val="50000"/>
                    </a:srgbClr>
                  </a:outerShdw>
                </a:effectLst>
                <a:latin typeface="Times New Roman"/>
              </a:rPr>
              <a:t>Оценочный лист обучающегос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c7dfd3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50920" y="1916280"/>
            <a:ext cx="8424720" cy="367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699920"/>
            <a:ext cx="425916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Графический язык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-пиктограммы-топографическое письмо.</a:t>
            </a:r>
            <a:endParaRPr b="0" lang="en-US" sz="2000" spc="-1" strike="noStrike">
              <a:solidFill>
                <a:srgbClr val="3333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Клинопись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-перо по глине-первый алфавит-15 в до н.э.-фонетическое письмо.</a:t>
            </a:r>
            <a:endParaRPr b="0" lang="en-US" sz="2000" spc="-1" strike="noStrike">
              <a:solidFill>
                <a:srgbClr val="3333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Рождение графического языка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 было продиктовано настоятельной необходимостью точной передаче формы и геометрических свойств трехмерных объектов. Это качество графического языка отличает его от других языков, выбранного человечеством.</a:t>
            </a:r>
            <a:endParaRPr b="0" lang="en-US" sz="2000" spc="-1" strike="noStrike">
              <a:solidFill>
                <a:srgbClr val="3333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95640" y="54936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c7dfd3">
                      <a:alpha val="50000"/>
                    </a:srgbClr>
                  </a:outerShdw>
                </a:effectLst>
                <a:latin typeface="Times New Roman"/>
              </a:rPr>
              <a:t>Искусство графического письм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c7dfd3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3" name="cherch0018" descr=""/>
          <p:cNvPicPr/>
          <p:nvPr/>
        </p:nvPicPr>
        <p:blipFill>
          <a:blip r:embed="rId4"/>
          <a:stretch/>
        </p:blipFill>
        <p:spPr>
          <a:xfrm>
            <a:off x="4859280" y="1700280"/>
            <a:ext cx="3740040" cy="432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3519720" cy="4425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4248000" cy="422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0" t="0" r="1465" b="0"/>
          <a:stretch/>
        </p:blipFill>
        <p:spPr>
          <a:xfrm>
            <a:off x="684360" y="2492280"/>
            <a:ext cx="7920000" cy="3300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067280" y="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50920" y="2781360"/>
            <a:ext cx="8663040" cy="407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2444760"/>
            <a:ext cx="4105440" cy="29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714920" y="2371680"/>
            <a:ext cx="4105080" cy="308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roekcija-predmeta_0" descr="proekcija-predmeta_0.png"/>
          <p:cNvPicPr/>
          <p:nvPr/>
        </p:nvPicPr>
        <p:blipFill>
          <a:blip r:embed="rId2"/>
          <a:stretch/>
        </p:blipFill>
        <p:spPr>
          <a:xfrm>
            <a:off x="395280" y="1773360"/>
            <a:ext cx="8497800" cy="4060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050920" y="47628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ри проекции предме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ядя на предмет спереди, сверху и сбо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595008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ри проекции предмета:глядя на предмет спереди, сверху и сбо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1754280"/>
            <a:ext cx="4105440" cy="431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14920" y="1716120"/>
            <a:ext cx="4249800" cy="424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7:39:16Z</dcterms:created>
  <dc:creator>Koger_NV</dc:creator>
  <dc:description/>
  <dc:language>en-US</dc:language>
  <cp:lastModifiedBy>Koger_NV</cp:lastModifiedBy>
  <dcterms:modified xsi:type="dcterms:W3CDTF">2012-02-09T08:09:53Z</dcterms:modified>
  <cp:revision>5</cp:revision>
  <dc:subject/>
  <dc:title>Слайд 1</dc:title>
</cp:coreProperties>
</file>