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237-ABE0-4537-8946-C06C640E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D09-19A5-45DE-99A2-892AC665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885-3D05-485A-9726-06589A81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3BC-5F55-40B6-BD57-F88186E9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1181-8163-41DB-800C-9000A336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C4B3-27F5-4492-8965-B7C812D4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D754-B2A6-44C0-B873-858D2B72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035C-8EA8-435C-A9C3-E327DA33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3375-75EE-4F1F-A26B-54200C5B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D57C-3F0F-4317-868E-3BAEFF6B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6FAA-B1CA-45E0-8DDD-37C931F1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A5C8-92C7-4525-A08B-B22E76FA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BDA3-07C4-40B3-9E4C-988B4D24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BE99-D76C-4142-943C-EEFA86AD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3A5B-CEC6-41DC-BC89-AC783E7A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05A8-CAB0-4CD7-BF3C-180E0FBA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A5E5-FDC4-46EF-9F73-E804917B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02F-0D97-4E41-AD3C-5ACF50DA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843-773F-4C2C-B4C6-63574CDA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B4BF-E8E4-4359-AFC1-75096656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2D1-8E8B-450F-8293-A974EA58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641-44BE-489E-BC80-FAB552AE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D6E2-243B-4F15-8C3A-55732C29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FF6-5627-4104-A0E5-8A4EF77B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A6A6-CF2F-4DE2-A1C0-27B4EF3142A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D2EF-E3E7-4589-96A9-7F3CC9EE71A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468360" y="404640"/>
            <a:ext cx="655164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мпераме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2714760" y="2857680"/>
            <a:ext cx="5472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аракт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0" name="WordArt 7"/>
          <p:cNvSpPr txBox="1"/>
          <p:nvPr/>
        </p:nvSpPr>
        <p:spPr>
          <a:xfrm>
            <a:off x="1285920" y="4714920"/>
            <a:ext cx="7102440" cy="13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собност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0e5"/>
                </a:solidFill>
                <a:latin typeface="Arial"/>
              </a:rPr>
              <a:t>Понятие темперамент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28760" y="1928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Темперамент – устойчивое объединение индивидуальных особенностей личности, связанных с динамическими, а не содержательными аспектами деятель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Темперамент – тип высшей нервной деятельности челове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, наверное, замечали , что одни люди «легки на подъём», а других надо как следует раскачать. Одни- оптимисты, а другие- пессимисты, одни- уравновешенные, а другие- неуёмные. Все это свидетельство свойств (особенностей) психики людей, а именно темперамента. Впервые описал темпераменты древнегреческий ученый врач Гиппократ. Он считал, что различие между людьми- это результат количественного соотношения жидкостей в организме. У любого человека, по его мнению, четыре типа жидкостей: два сорта желчи- черная и желтая; кровь и лимфа. Название темпераментам дал Гиппократ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Темперамент- это природная конституция любого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челове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1332000" y="0"/>
            <a:ext cx="64087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то такое темперамент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179280" y="4437000"/>
            <a:ext cx="2195640" cy="11509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eae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Желтая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желчь-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олерики-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энергичные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еуёмные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Oval 8"/>
          <p:cNvSpPr/>
          <p:nvPr/>
        </p:nvSpPr>
        <p:spPr>
          <a:xfrm>
            <a:off x="2340000" y="4508640"/>
            <a:ext cx="2376360" cy="1150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2. Черная желчь-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меланхолики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унылые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ассивны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4643280" y="4508640"/>
            <a:ext cx="2303640" cy="11509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d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3. Кровь-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сангвиники-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благоразумные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собранные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Verdana"/>
              </a:rPr>
              <a:t>активные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6912000" y="4437000"/>
            <a:ext cx="2232000" cy="11509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a462a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Verdana"/>
              </a:rPr>
              <a:t>4. Лимфа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Verdana"/>
              </a:rPr>
              <a:t>флегматики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Verdana"/>
              </a:rPr>
              <a:t>вялые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Verdana"/>
              </a:rPr>
              <a:t>неторопливы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1332000" y="0"/>
            <a:ext cx="619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Impact"/>
              </a:rPr>
              <a:t>О типах темперамент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1" name="AutoShape 20"/>
          <p:cNvSpPr/>
          <p:nvPr/>
        </p:nvSpPr>
        <p:spPr>
          <a:xfrm>
            <a:off x="826920" y="4005360"/>
            <a:ext cx="4392720" cy="2232000"/>
          </a:xfrm>
          <a:prstGeom prst="wedgeRoundRectCallout">
            <a:avLst>
              <a:gd name="adj1" fmla="val -29398"/>
              <a:gd name="adj2" fmla="val 72546"/>
              <a:gd name="adj3" fmla="val 16667"/>
            </a:avLst>
          </a:pr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Сангвиники: гиганты нервной системы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Оптимисты. Меньше всех болеют, мало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спят. Обладают огромной работоспособностью. Речь и движение почти всегда так же быстры, как у холериков, но чувства не бурные,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быстроменяющиеся. Как правило,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орошие работники. Но заставить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работать сангвиника трудно. Его нужно заинтересовать- тогда он горы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сдвинет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AutoShape 21"/>
          <p:cNvSpPr/>
          <p:nvPr/>
        </p:nvSpPr>
        <p:spPr>
          <a:xfrm>
            <a:off x="4932360" y="4076640"/>
            <a:ext cx="4211640" cy="2233800"/>
          </a:xfrm>
          <a:prstGeom prst="wedgeRoundRectCallout">
            <a:avLst>
              <a:gd name="adj1" fmla="val -45629"/>
              <a:gd name="adj2" fmla="val 69333"/>
              <a:gd name="adj3" fmla="val 16667"/>
            </a:avLst>
          </a:prstGeom>
          <a:gradFill rotWithShape="0">
            <a:gsLst>
              <a:gs pos="0">
                <a:srgbClr val="339966"/>
              </a:gs>
              <a:gs pos="100000">
                <a:srgbClr val="1847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Флегматики: сильная, уровнавешенная  нервная система. Чувства постоянные,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но не ярко выраженные. Движения и речь спокойные, размеренны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Реакция на неожиданное воздействие запаздывает. Чтобы флегматик хорошо работал, его необходимо время от времени встряхивать»: устроить разбор выполненной им работы, поругать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или, наоборот, похвалить его.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utoShape 22"/>
          <p:cNvSpPr/>
          <p:nvPr/>
        </p:nvSpPr>
        <p:spPr>
          <a:xfrm>
            <a:off x="0" y="1413000"/>
            <a:ext cx="4500720" cy="2303280"/>
          </a:xfrm>
          <a:prstGeom prst="wedgeRoundRectCallout">
            <a:avLst>
              <a:gd name="adj1" fmla="val -35504"/>
              <a:gd name="adj2" fmla="val 62541"/>
              <a:gd name="adj3" fmla="val 16667"/>
            </a:avLst>
          </a:prstGeom>
          <a:gradFill rotWithShape="0">
            <a:gsLst>
              <a:gs pos="0">
                <a:srgbClr val="808000"/>
              </a:gs>
              <a:gs pos="100000">
                <a:srgbClr val="3b3b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Меланхолики: легко ранимые, склонные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к постоянному переживанию различных событий, они остро реагируют на внешние факторы. Свои переживания они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зачастую не могут сдерживать усилием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воли, повышенно впечатлительны, легко эмоционально ранимы, быстро устают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при высоких нервных напряжениях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Очень мягкие, доброжелательны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23"/>
          <p:cNvSpPr/>
          <p:nvPr/>
        </p:nvSpPr>
        <p:spPr>
          <a:xfrm>
            <a:off x="4716360" y="1341360"/>
            <a:ext cx="4427640" cy="2305080"/>
          </a:xfrm>
          <a:prstGeom prst="wedgeRoundRectCallout">
            <a:avLst>
              <a:gd name="adj1" fmla="val -32037"/>
              <a:gd name="adj2" fmla="val 62467"/>
              <a:gd name="adj3" fmla="val 16667"/>
            </a:avLst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олерики: прямая противоположность меланхоликам. Наступательный характер, всегда идут на встречу трудностям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Любые переживания ведут к действию. Мягких замечаний не воспринимают, жесткие- приводят к бунту. Главные нарушители дисциплины, быстрые, порывистые, однако совершенно неуравновешенные, с резко меняющимся настроением, с эмоциональными вспышками, быстро истощаемые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Меланхолики, холерики, флегматики, сангвиник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6" name="Содержимое 4" descr="Они были меланхоликами."/>
          <p:cNvPicPr/>
          <p:nvPr/>
        </p:nvPicPr>
        <p:blipFill>
          <a:blip r:embed="rId1"/>
          <a:stretch/>
        </p:blipFill>
        <p:spPr>
          <a:xfrm>
            <a:off x="428760" y="1714680"/>
            <a:ext cx="1643040" cy="1785600"/>
          </a:xfrm>
          <a:prstGeom prst="rect">
            <a:avLst/>
          </a:prstGeom>
          <a:ln w="0">
            <a:noFill/>
          </a:ln>
        </p:spPr>
      </p:pic>
      <p:pic>
        <p:nvPicPr>
          <p:cNvPr id="177" name="ileft" descr="Меланхолик Есенин"/>
          <p:cNvPicPr/>
          <p:nvPr/>
        </p:nvPicPr>
        <p:blipFill>
          <a:blip r:embed="rId2"/>
          <a:stretch/>
        </p:blipFill>
        <p:spPr>
          <a:xfrm>
            <a:off x="2571840" y="1714680"/>
            <a:ext cx="1190520" cy="1785600"/>
          </a:xfrm>
          <a:prstGeom prst="rect">
            <a:avLst/>
          </a:prstGeom>
          <a:ln w="0">
            <a:noFill/>
          </a:ln>
        </p:spPr>
      </p:pic>
      <p:pic>
        <p:nvPicPr>
          <p:cNvPr id="178" name="ileft" descr="сангвиник наполеон"/>
          <p:cNvPicPr/>
          <p:nvPr/>
        </p:nvPicPr>
        <p:blipFill>
          <a:blip r:embed="rId3"/>
          <a:stretch/>
        </p:blipFill>
        <p:spPr>
          <a:xfrm>
            <a:off x="1000080" y="3929040"/>
            <a:ext cx="2928960" cy="2170080"/>
          </a:xfrm>
          <a:prstGeom prst="rect">
            <a:avLst/>
          </a:prstGeom>
          <a:ln w="0">
            <a:noFill/>
          </a:ln>
        </p:spPr>
      </p:pic>
      <p:pic>
        <p:nvPicPr>
          <p:cNvPr id="179" name="ileft" descr="холерик Пушкин"/>
          <p:cNvPicPr/>
          <p:nvPr/>
        </p:nvPicPr>
        <p:blipFill>
          <a:blip r:embed="rId4"/>
          <a:stretch/>
        </p:blipFill>
        <p:spPr>
          <a:xfrm>
            <a:off x="5357880" y="1714680"/>
            <a:ext cx="1425600" cy="1744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1" descr=""/>
          <p:cNvPicPr/>
          <p:nvPr/>
        </p:nvPicPr>
        <p:blipFill>
          <a:blip r:embed="rId5"/>
          <a:stretch/>
        </p:blipFill>
        <p:spPr>
          <a:xfrm>
            <a:off x="7358040" y="1714680"/>
            <a:ext cx="1328760" cy="1714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4357800" y="1856880"/>
            <a:ext cx="1000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6"/>
          <a:stretch/>
        </p:blipFill>
        <p:spPr>
          <a:xfrm>
            <a:off x="6000840" y="371484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Характер- это совокупность устойчивых индивидуальных особенностей личности, складывающихся и проявляющихся в деятельности и общении, обуславливающих поведении в той или иной ситуа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76"/>
                </a:solidFill>
                <a:latin typeface="Verdana"/>
              </a:rPr>
              <a:t>Человек не рождается с хорошим или плохим характер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Verdana"/>
              </a:rPr>
              <a:t>Характер нужно формировать, строить, постоянно над ним работать в течении всей жиз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826920" y="0"/>
            <a:ext cx="7201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такое характер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858160" cy="635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860904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арактер проявляется в системе отношений: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660033"/>
                </a:solidFill>
                <a:latin typeface="Arial"/>
              </a:rPr>
              <a:t>в отношении к другим людям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общительность – замкнутость, правдивость- лживость и т.д.)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в отношени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к делу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(ответственность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ли недобросовестность, трудолюбие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ли леность, и т.д.)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 отношени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к себ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(скромность – самовлюбленность 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гордость или приниженность)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800" spc="-1" strike="noStrike">
                <a:solidFill>
                  <a:srgbClr val="990099"/>
                </a:solidFill>
                <a:latin typeface="Arial"/>
              </a:rPr>
              <a:t>в отношении к собственности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щедрость или жадность, бережливость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ли расточительность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333300"/>
                </a:solidFill>
                <a:latin typeface="Verdana"/>
              </a:rPr>
              <a:t>Способности- это индивидуальны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333300"/>
                </a:solidFill>
                <a:latin typeface="Verdana"/>
              </a:rPr>
              <a:t>свойства личности, которые являются условиями успешного осуществления  определенного рода деятель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333300"/>
                </a:solidFill>
                <a:latin typeface="Verdana"/>
              </a:rPr>
              <a:t>У всех людей они разные, развиваются и формируются только в деятельности и общен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WordArt 5" descr=""/>
          <p:cNvPicPr/>
          <p:nvPr/>
        </p:nvPicPr>
        <p:blipFill>
          <a:blip r:embed="rId1"/>
          <a:stretch/>
        </p:blipFill>
        <p:spPr>
          <a:xfrm>
            <a:off x="237960" y="-6480"/>
            <a:ext cx="87044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пособности подразделяются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 на общие (проявляющиеся в общении, взаимодействии с людьми): внимание, воображение, память, мышление и реч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 На специальные (качество, обеспечивающее успех в конкретном виде деятельности):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учебные и творческие, математические, конструктивно-технические, музыкальные, литературные, художественно-изобразительные, физические способ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2340000" y="333360"/>
            <a:ext cx="475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4d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ности.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004d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12:06:09Z</dcterms:created>
  <dc:creator>Лена</dc:creator>
  <dc:description/>
  <dc:language>en-US</dc:language>
  <cp:lastModifiedBy>SamLab.ws</cp:lastModifiedBy>
  <dcterms:modified xsi:type="dcterms:W3CDTF">2012-02-02T04:09:28Z</dcterms:modified>
  <cp:revision>55</cp:revision>
  <dc:subject/>
  <dc:title>Слайд 1</dc:title>
</cp:coreProperties>
</file>