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4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23.jpeg" ContentType="image/jpeg"/>
  <Override PartName="/ppt/media/image12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18.png" ContentType="image/png"/>
  <Override PartName="/ppt/media/image28.jpeg" ContentType="image/jpeg"/>
  <Override PartName="/ppt/media/image39.png" ContentType="image/png"/>
  <Override PartName="/ppt/media/image41.png" ContentType="image/png"/>
  <Override PartName="/ppt/media/image9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3.png" ContentType="image/pn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8.png" ContentType="image/png"/>
  <Override PartName="/ppt/media/image40.jpeg" ContentType="image/jpeg"/>
  <Override PartName="/ppt/media/image13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FB5-1B4F-482C-ADAC-08ACBB40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AA7-2BC8-4F78-A378-0F7C9EEF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4D6-1456-4382-AC8F-5110A2CD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642-4E34-4252-95C4-B240ED44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4BB-46F8-4726-B273-21BA697D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C9F-8F86-4D65-A6BE-1CED9C85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8F2-815F-419E-A10F-CE120F5C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175-ACCD-4A10-B8E9-46E9F3F1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645-9E21-4F3E-B774-8CF9D606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8AD-25D7-48D3-96AD-4FC7ED9E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6FE-A733-4377-838A-56098B0A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FCB-AB8E-48F3-8F7B-DB6BD610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C9AC-0BD1-4482-A8D4-AD6799444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http://im4-tub-ru.yandex.net/i?id=303207817-39-72&amp;n=21"/>
          <p:cNvPicPr/>
          <p:nvPr/>
        </p:nvPicPr>
        <p:blipFill>
          <a:blip r:embed="rId1"/>
          <a:stretch/>
        </p:blipFill>
        <p:spPr>
          <a:xfrm>
            <a:off x="6651720" y="3716280"/>
            <a:ext cx="2492280" cy="3141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http://im5-tub-ru.yandex.net/i?id=194071033-67-72&amp;n=21"/>
          <p:cNvPicPr/>
          <p:nvPr/>
        </p:nvPicPr>
        <p:blipFill>
          <a:blip r:embed="rId2"/>
          <a:stretch/>
        </p:blipFill>
        <p:spPr>
          <a:xfrm>
            <a:off x="0" y="0"/>
            <a:ext cx="2160720" cy="3240000"/>
          </a:xfrm>
          <a:prstGeom prst="rect">
            <a:avLst/>
          </a:prstGeom>
          <a:ln w="0">
            <a:noFill/>
          </a:ln>
        </p:spPr>
      </p:pic>
      <p:grpSp>
        <p:nvGrpSpPr>
          <p:cNvPr id="43" name="TextBox 14"/>
          <p:cNvGrpSpPr/>
          <p:nvPr/>
        </p:nvGrpSpPr>
        <p:grpSpPr>
          <a:xfrm>
            <a:off x="2627280" y="981000"/>
            <a:ext cx="5876640" cy="1951200"/>
            <a:chOff x="2627280" y="981000"/>
            <a:chExt cx="5876640" cy="1951200"/>
          </a:xfrm>
        </p:grpSpPr>
        <p:pic>
          <p:nvPicPr>
            <p:cNvPr id="44" name="TextBox 14" descr=""/>
            <p:cNvPicPr/>
            <p:nvPr/>
          </p:nvPicPr>
          <p:blipFill>
            <a:blip r:embed="rId3"/>
            <a:stretch/>
          </p:blipFill>
          <p:spPr>
            <a:xfrm>
              <a:off x="2627280" y="981000"/>
              <a:ext cx="587664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689200" y="1193760"/>
              <a:ext cx="576108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</a:rPr>
                <a:t>Викторин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зработала: преподаватель ПУ-36 г. Ангарск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Баженова Любовь Аполонов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3644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 отделе кадров работод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Поясне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аботник имеет право взять трудовую книжку при необходимости на непродолжительное время под распис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Прямоугольник 5"/>
          <p:cNvGrpSpPr/>
          <p:nvPr/>
        </p:nvGrpSpPr>
        <p:grpSpPr>
          <a:xfrm>
            <a:off x="944640" y="109440"/>
            <a:ext cx="7711920" cy="1548000"/>
            <a:chOff x="944640" y="109440"/>
            <a:chExt cx="7711920" cy="1548000"/>
          </a:xfrm>
        </p:grpSpPr>
        <p:pic>
          <p:nvPicPr>
            <p:cNvPr id="90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944640" y="109440"/>
              <a:ext cx="771192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42920" y="260280"/>
              <a:ext cx="7345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9. Где хранится трудовая книжка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7" descr="http://im2-tub-ru.yandex.net/i?id=241019950-12-72&amp;n=21"/>
          <p:cNvPicPr/>
          <p:nvPr/>
        </p:nvPicPr>
        <p:blipFill>
          <a:blip r:embed="rId2"/>
          <a:stretch/>
        </p:blipFill>
        <p:spPr>
          <a:xfrm>
            <a:off x="3419640" y="1628640"/>
            <a:ext cx="24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3257280"/>
            <a:ext cx="8218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ояснение: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ривлечение к сверхурочной работе допускается с письменного согласия работника для завершения начатой работ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а при производственной необходимости без его согласия на основании прик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 допускается привлечение к сверхурочной работе беременных женщин, работников моложе 18 лет и др.катего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Прямоугольник 5"/>
          <p:cNvGrpSpPr/>
          <p:nvPr/>
        </p:nvGrpSpPr>
        <p:grpSpPr>
          <a:xfrm>
            <a:off x="407880" y="36360"/>
            <a:ext cx="8467920" cy="2163960"/>
            <a:chOff x="407880" y="36360"/>
            <a:chExt cx="8467920" cy="2163960"/>
          </a:xfrm>
        </p:grpSpPr>
        <p:pic>
          <p:nvPicPr>
            <p:cNvPr id="9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407880" y="36360"/>
              <a:ext cx="846792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68360" y="189000"/>
              <a:ext cx="8351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10. Можно ли привлекать работника моложе 18 лет к сверхурочной работе?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5" descr="http://im2-tub-ru.yandex.net/i?id=709077611-07-72&amp;n=21"/>
          <p:cNvPicPr/>
          <p:nvPr/>
        </p:nvPicPr>
        <p:blipFill>
          <a:blip r:embed="rId2"/>
          <a:stretch/>
        </p:blipFill>
        <p:spPr>
          <a:xfrm>
            <a:off x="3851280" y="2133720"/>
            <a:ext cx="16668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ояснение: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Время простоя по вине работодателя оплачивается не менее двух третей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средней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заработной п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Время простоя по причинам, не зависящим от работодателя и работника оплачивается не менее двух третей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тарифной ставки, оклада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пропорционально времени просто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Прямоугольник 5"/>
          <p:cNvGrpSpPr/>
          <p:nvPr/>
        </p:nvGrpSpPr>
        <p:grpSpPr>
          <a:xfrm>
            <a:off x="407880" y="36360"/>
            <a:ext cx="8321760" cy="1548000"/>
            <a:chOff x="407880" y="36360"/>
            <a:chExt cx="8321760" cy="1548000"/>
          </a:xfrm>
        </p:grpSpPr>
        <p:pic>
          <p:nvPicPr>
            <p:cNvPr id="100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407880" y="36360"/>
              <a:ext cx="832176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68360" y="189000"/>
              <a:ext cx="8207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11. Время простоя по вине работника оплачивается?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5" descr="http://im8-tub-ru.yandex.net/i?id=556953033-49-72&amp;n=21"/>
          <p:cNvPicPr/>
          <p:nvPr/>
        </p:nvPicPr>
        <p:blipFill>
          <a:blip r:embed="rId2"/>
          <a:stretch/>
        </p:blipFill>
        <p:spPr>
          <a:xfrm>
            <a:off x="6659640" y="1628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1280" y="4149720"/>
            <a:ext cx="82072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В повышенном разм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ояснение: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очным считается время работы с 22-00 час. до 06-00 час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Работа в выходные и праздничные дни оплачивается не менее чем в двойном разм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Прямоугольник 5"/>
          <p:cNvGrpSpPr/>
          <p:nvPr/>
        </p:nvGrpSpPr>
        <p:grpSpPr>
          <a:xfrm>
            <a:off x="500040" y="36360"/>
            <a:ext cx="8534520" cy="2163960"/>
            <a:chOff x="500040" y="36360"/>
            <a:chExt cx="8534520" cy="2163960"/>
          </a:xfrm>
        </p:grpSpPr>
        <p:pic>
          <p:nvPicPr>
            <p:cNvPr id="10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500040" y="36360"/>
              <a:ext cx="853452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11280" y="189000"/>
              <a:ext cx="81374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12. Как оплачивается работа в ночное время, выходные и праздничные дни?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5" descr="http://im7-tub-ru.yandex.net/i?id=35949601-70-72&amp;n=21"/>
          <p:cNvPicPr/>
          <p:nvPr/>
        </p:nvPicPr>
        <p:blipFill>
          <a:blip r:embed="rId2"/>
          <a:stretch/>
        </p:blipFill>
        <p:spPr>
          <a:xfrm>
            <a:off x="3924360" y="206064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http://im0-tub-ru.yandex.net/i?id=11731088-00-16f-15911&amp;n=21"/>
          <p:cNvPicPr/>
          <p:nvPr/>
        </p:nvPicPr>
        <p:blipFill>
          <a:blip r:embed="rId3"/>
          <a:stretch/>
        </p:blipFill>
        <p:spPr>
          <a:xfrm>
            <a:off x="2411280" y="2133720"/>
            <a:ext cx="1516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27813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ояснение: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еревод это существенное изменение условий труда и оплаты, допускается только с письменного согласия работ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 требуется согласие на временный перевод по производственной необходимости и в качестве наказания за нарушение трудовой дисцип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Прямоугольник 6"/>
          <p:cNvGrpSpPr/>
          <p:nvPr/>
        </p:nvGrpSpPr>
        <p:grpSpPr>
          <a:xfrm>
            <a:off x="115920" y="36360"/>
            <a:ext cx="8856720" cy="2163960"/>
            <a:chOff x="115920" y="36360"/>
            <a:chExt cx="8856720" cy="2163960"/>
          </a:xfrm>
        </p:grpSpPr>
        <p:pic>
          <p:nvPicPr>
            <p:cNvPr id="111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15920" y="36360"/>
              <a:ext cx="885672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79280" y="189000"/>
              <a:ext cx="86043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13. Перевод на другую постоянную работу требует согласие работника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5" descr="http://im8-tub-ru.yandex.net/i?id=365265231-15-72&amp;n=21"/>
          <p:cNvPicPr/>
          <p:nvPr/>
        </p:nvPicPr>
        <p:blipFill>
          <a:blip r:embed="rId2"/>
          <a:stretch/>
        </p:blipFill>
        <p:spPr>
          <a:xfrm>
            <a:off x="6372360" y="2038320"/>
            <a:ext cx="23270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920" y="3789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ояснение: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 требуется согласие работника при  перемещении на другое рабочее место у того же работодателя, если существенно не меняются условия трудового дого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Прямоугольник 7"/>
          <p:cNvGrpSpPr/>
          <p:nvPr/>
        </p:nvGrpSpPr>
        <p:grpSpPr>
          <a:xfrm>
            <a:off x="407880" y="182520"/>
            <a:ext cx="8339400" cy="2163960"/>
            <a:chOff x="407880" y="182520"/>
            <a:chExt cx="8339400" cy="2163960"/>
          </a:xfrm>
        </p:grpSpPr>
        <p:pic>
          <p:nvPicPr>
            <p:cNvPr id="116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407880" y="182520"/>
              <a:ext cx="833940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68360" y="333360"/>
              <a:ext cx="82249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14. Перемещение на другое рабочее место считается переводом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5" descr="http://im0-tub-ru.yandex.net/i?id=447814726-69-72&amp;n=21"/>
          <p:cNvPicPr/>
          <p:nvPr/>
        </p:nvPicPr>
        <p:blipFill>
          <a:blip r:embed="rId2"/>
          <a:stretch/>
        </p:blipFill>
        <p:spPr>
          <a:xfrm>
            <a:off x="3635280" y="227664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3284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Трудовая книжка, документ об образовании, паспорт, военный билет (для военнообязанны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Поясне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 отдельных случаях требуется заключение мед. комиссий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Прямоугольник 7"/>
          <p:cNvGrpSpPr/>
          <p:nvPr/>
        </p:nvGrpSpPr>
        <p:grpSpPr>
          <a:xfrm>
            <a:off x="334800" y="36360"/>
            <a:ext cx="8676000" cy="2163960"/>
            <a:chOff x="334800" y="36360"/>
            <a:chExt cx="8676000" cy="2163960"/>
          </a:xfrm>
        </p:grpSpPr>
        <p:pic>
          <p:nvPicPr>
            <p:cNvPr id="121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334800" y="36360"/>
              <a:ext cx="867600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95280" y="189000"/>
              <a:ext cx="84247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15. Какие документы необходимы при устройстве на работу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5" descr="http://im8-tub-ru.yandex.net/i?id=334894569-27-72&amp;n=21"/>
          <p:cNvPicPr/>
          <p:nvPr/>
        </p:nvPicPr>
        <p:blipFill>
          <a:blip r:embed="rId2"/>
          <a:srcRect l="0" t="0" r="0" b="14336"/>
          <a:stretch/>
        </p:blipFill>
        <p:spPr>
          <a:xfrm>
            <a:off x="6948360" y="1700280"/>
            <a:ext cx="1809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000" y="2924280"/>
            <a:ext cx="8002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Поясне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аботодатель обязан выдать трудовую книжку и провести с ним расчёт по заработной плате в день прекращение трудового договора (в последний день работы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рямоугольник 5"/>
          <p:cNvGrpSpPr/>
          <p:nvPr/>
        </p:nvGrpSpPr>
        <p:grpSpPr>
          <a:xfrm>
            <a:off x="480960" y="36360"/>
            <a:ext cx="8626680" cy="2779920"/>
            <a:chOff x="480960" y="36360"/>
            <a:chExt cx="8626680" cy="2779920"/>
          </a:xfrm>
        </p:grpSpPr>
        <p:pic>
          <p:nvPicPr>
            <p:cNvPr id="126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480960" y="36360"/>
              <a:ext cx="8626680" cy="27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39640" y="189000"/>
              <a:ext cx="838836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Arial"/>
                </a:rPr>
                <a:t>16. Имеет ли право работодатель </a:t>
              </a: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i="1" lang="ru-RU" sz="4000" spc="-1" strike="noStrike">
                  <a:solidFill>
                    <a:srgbClr val="ffffff"/>
                  </a:solidFill>
                  <a:latin typeface="Arial"/>
                </a:rPr>
                <a:t>задержать</a:t>
              </a: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”</a:t>
              </a:r>
              <a:r>
                <a:rPr b="1" i="1" lang="ru-RU" sz="4000" spc="-1" strike="noStrike">
                  <a:solidFill>
                    <a:srgbClr val="ffffff"/>
                  </a:solidFill>
                  <a:latin typeface="Arial"/>
                </a:rPr>
                <a:t> выдачу трудовой книжки при увольнении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Picture 5" descr="http://im2-tub-ru.yandex.net/i?id=300311639-66-72&amp;n=21"/>
          <p:cNvPicPr/>
          <p:nvPr/>
        </p:nvPicPr>
        <p:blipFill>
          <a:blip r:embed="rId2"/>
          <a:stretch/>
        </p:blipFill>
        <p:spPr>
          <a:xfrm>
            <a:off x="7093080" y="2349360"/>
            <a:ext cx="1895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2924280"/>
            <a:ext cx="82915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Поясне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о соглашению между работником и работодателем при приёме на работу может быть установлено не полное рабочий день или не полная рабочая неделя (лицам имеющим детей до 14 лет и др.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Прямоугольник 5"/>
          <p:cNvGrpSpPr/>
          <p:nvPr/>
        </p:nvGrpSpPr>
        <p:grpSpPr>
          <a:xfrm>
            <a:off x="-23760" y="36360"/>
            <a:ext cx="9264600" cy="2163960"/>
            <a:chOff x="-23760" y="36360"/>
            <a:chExt cx="9264600" cy="2163960"/>
          </a:xfrm>
        </p:grpSpPr>
        <p:pic>
          <p:nvPicPr>
            <p:cNvPr id="131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23760" y="36360"/>
              <a:ext cx="926460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50920" y="189000"/>
              <a:ext cx="85690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17. Может ли быть установлено не полное рабочее время (день, неделя)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5" descr="http://im6-tub-ru.yandex.net/i?id=142458444-27-72&amp;n=21"/>
          <p:cNvPicPr/>
          <p:nvPr/>
        </p:nvPicPr>
        <p:blipFill>
          <a:blip r:embed="rId2"/>
          <a:stretch/>
        </p:blipFill>
        <p:spPr>
          <a:xfrm>
            <a:off x="4140360" y="2205000"/>
            <a:ext cx="1942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45840" y="3499920"/>
            <a:ext cx="8497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0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ояснение: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для отдельных категорий продолжительность рабочей недели сокращается, например на работах с вредными условиями труда до 30 или 36 часов, в зависимости от условий труд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Прямоугольник 5"/>
          <p:cNvGrpSpPr/>
          <p:nvPr/>
        </p:nvGrpSpPr>
        <p:grpSpPr>
          <a:xfrm>
            <a:off x="109440" y="36360"/>
            <a:ext cx="8894880" cy="2779920"/>
            <a:chOff x="109440" y="36360"/>
            <a:chExt cx="8894880" cy="2779920"/>
          </a:xfrm>
        </p:grpSpPr>
        <p:pic>
          <p:nvPicPr>
            <p:cNvPr id="136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09440" y="36360"/>
              <a:ext cx="8894880" cy="27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79280" y="189000"/>
              <a:ext cx="85694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18. Сколько часов составляет нормальная продолжительность рабочий недели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7" descr="http://im2-tub-ru.yandex.net/i?id=251056516-63-72&amp;n=21"/>
          <p:cNvPicPr/>
          <p:nvPr/>
        </p:nvPicPr>
        <p:blipFill>
          <a:blip r:embed="rId2"/>
          <a:srcRect l="0" t="0" r="27516" b="0"/>
          <a:stretch/>
        </p:blipFill>
        <p:spPr>
          <a:xfrm>
            <a:off x="7020000" y="2852640"/>
            <a:ext cx="18018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4360" y="4220640"/>
            <a:ext cx="7704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Пояснение: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тношения возникают при заключении трудового договора или контра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Прямоугольник 6"/>
          <p:cNvGrpSpPr/>
          <p:nvPr/>
        </p:nvGrpSpPr>
        <p:grpSpPr>
          <a:xfrm>
            <a:off x="480960" y="182520"/>
            <a:ext cx="8352000" cy="1549440"/>
            <a:chOff x="480960" y="182520"/>
            <a:chExt cx="8352000" cy="1549440"/>
          </a:xfrm>
        </p:grpSpPr>
        <p:pic>
          <p:nvPicPr>
            <p:cNvPr id="48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480960" y="182520"/>
              <a:ext cx="83520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39640" y="333360"/>
              <a:ext cx="8136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1.Что является предметом трудового права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оугольник 8"/>
          <p:cNvSpPr/>
          <p:nvPr/>
        </p:nvSpPr>
        <p:spPr>
          <a:xfrm>
            <a:off x="684360" y="328464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Отношения между работником и работода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im5-tub-ru.yandex.net/i?id=470152208-53-72&amp;n=21"/>
          <p:cNvPicPr/>
          <p:nvPr/>
        </p:nvPicPr>
        <p:blipFill>
          <a:blip r:embed="rId2"/>
          <a:stretch/>
        </p:blipFill>
        <p:spPr>
          <a:xfrm>
            <a:off x="3132000" y="1773360"/>
            <a:ext cx="2724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9280" y="3112560"/>
            <a:ext cx="8218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Поясне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Ненормированный рабочий день- это особый режим работы при котором  работник может привлекаться к выполнению своих функций сверх установленного режима (переработка компенсируется дополнительным отпуском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Прямоугольник 5"/>
          <p:cNvGrpSpPr/>
          <p:nvPr/>
        </p:nvGrpSpPr>
        <p:grpSpPr>
          <a:xfrm>
            <a:off x="115920" y="-23760"/>
            <a:ext cx="8594640" cy="2595600"/>
            <a:chOff x="115920" y="-23760"/>
            <a:chExt cx="8594640" cy="2595600"/>
          </a:xfrm>
        </p:grpSpPr>
        <p:pic>
          <p:nvPicPr>
            <p:cNvPr id="141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15920" y="-23760"/>
              <a:ext cx="8594640" cy="25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95280" y="189000"/>
              <a:ext cx="820908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19. Может ли работник, имея ненормированный рабочий день уйти с работы до окончания рабочего дня?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5" descr="http://im6-tub-ru.yandex.net/i?id=91528428-09-72&amp;n=21"/>
          <p:cNvPicPr/>
          <p:nvPr/>
        </p:nvPicPr>
        <p:blipFill>
          <a:blip r:embed="rId2"/>
          <a:stretch/>
        </p:blipFill>
        <p:spPr>
          <a:xfrm>
            <a:off x="7524720" y="206064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Начало и окончание рабочего дня устанавливается по соглашению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Поясн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одсчёт рабочего времени производится суммарно за меся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Прямоугольник 5"/>
          <p:cNvGrpSpPr/>
          <p:nvPr/>
        </p:nvGrpSpPr>
        <p:grpSpPr>
          <a:xfrm>
            <a:off x="549360" y="36360"/>
            <a:ext cx="7893000" cy="1548000"/>
            <a:chOff x="549360" y="36360"/>
            <a:chExt cx="7893000" cy="1548000"/>
          </a:xfrm>
        </p:grpSpPr>
        <p:pic>
          <p:nvPicPr>
            <p:cNvPr id="146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549360" y="36360"/>
              <a:ext cx="789300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11280" y="189000"/>
              <a:ext cx="7777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20. Что означает гибкий режим рабочего времени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icture 5" descr="http://im3-tub-ru.yandex.net/i?id=508742884-15-72&amp;n=21"/>
          <p:cNvPicPr/>
          <p:nvPr/>
        </p:nvPicPr>
        <p:blipFill>
          <a:blip r:embed="rId2"/>
          <a:stretch/>
        </p:blipFill>
        <p:spPr>
          <a:xfrm>
            <a:off x="4067280" y="1557360"/>
            <a:ext cx="1361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обода труда (выбор вида деятельности, места работы, професс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ый имеет равные возможности для реализации своих трудовы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нудительный труд запрещ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рещение дискриминации в сфер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о на возмещение вреда, причинённого при выполнении трудовых обязан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щита от безработицы и содействие в трудоустрой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о на государственную защиту трудовых прав и свобод, включая судебную защи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250920" y="189000"/>
            <a:ext cx="8748720" cy="10810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Основные принципы трудового пр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2" descr="http://im4-tub-ru.yandex.net/i?id=303207817-39-72&amp;n=21"/>
          <p:cNvPicPr/>
          <p:nvPr/>
        </p:nvPicPr>
        <p:blipFill>
          <a:blip r:embed="rId1"/>
          <a:stretch/>
        </p:blipFill>
        <p:spPr>
          <a:xfrm>
            <a:off x="7740720" y="1989000"/>
            <a:ext cx="1133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skill.ru/images/2006/06/13/141296.jpg"/>
          <p:cNvPicPr/>
          <p:nvPr/>
        </p:nvPicPr>
        <p:blipFill>
          <a:blip r:embed="rId1"/>
          <a:stretch/>
        </p:blipFill>
        <p:spPr>
          <a:xfrm>
            <a:off x="0" y="-458640"/>
            <a:ext cx="9164520" cy="75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www.vsyaanimaciya.ru/_ph/177/2/857352361.jpg"/>
          <p:cNvPicPr/>
          <p:nvPr/>
        </p:nvPicPr>
        <p:blipFill>
          <a:blip r:embed="rId1"/>
          <a:srcRect l="0" t="0" r="0" b="4242"/>
          <a:stretch/>
        </p:blipFill>
        <p:spPr>
          <a:xfrm>
            <a:off x="1116000" y="0"/>
            <a:ext cx="716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Rectangle 2"/>
          <p:cNvGrpSpPr/>
          <p:nvPr/>
        </p:nvGrpSpPr>
        <p:grpSpPr>
          <a:xfrm>
            <a:off x="420840" y="189000"/>
            <a:ext cx="8789760" cy="1542960"/>
            <a:chOff x="420840" y="189000"/>
            <a:chExt cx="8789760" cy="1542960"/>
          </a:xfrm>
        </p:grpSpPr>
        <p:pic>
          <p:nvPicPr>
            <p:cNvPr id="53" name="Rectangle 2" descr=""/>
            <p:cNvPicPr/>
            <p:nvPr/>
          </p:nvPicPr>
          <p:blipFill>
            <a:blip r:embed="rId1"/>
            <a:stretch/>
          </p:blipFill>
          <p:spPr>
            <a:xfrm>
              <a:off x="420840" y="189000"/>
              <a:ext cx="878976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11280" y="338040"/>
              <a:ext cx="8229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2. Когда возникают трудовые отношения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378936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ри устройстве на работу и заключении трудового договора или контр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ttp://im8-tub-ru.yandex.net/i?id=195684383-33-72&amp;n=21"/>
          <p:cNvPicPr/>
          <p:nvPr/>
        </p:nvPicPr>
        <p:blipFill>
          <a:blip r:embed="rId2"/>
          <a:stretch/>
        </p:blipFill>
        <p:spPr>
          <a:xfrm>
            <a:off x="3348000" y="1916280"/>
            <a:ext cx="21639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4000" y="3978000"/>
            <a:ext cx="8291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ояснение: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Комиссия по трудовым спорам создаётся по заявлению работника и рассматривает разногласия по трудовым вопросам между работником и работодателем.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Её решение является обязательным для ис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Прямоугольник 5"/>
          <p:cNvGrpSpPr/>
          <p:nvPr/>
        </p:nvGrpSpPr>
        <p:grpSpPr>
          <a:xfrm>
            <a:off x="255600" y="36360"/>
            <a:ext cx="8686800" cy="2163960"/>
            <a:chOff x="255600" y="36360"/>
            <a:chExt cx="8686800" cy="2163960"/>
          </a:xfrm>
        </p:grpSpPr>
        <p:pic>
          <p:nvPicPr>
            <p:cNvPr id="59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255600" y="36360"/>
              <a:ext cx="868680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24000" y="189000"/>
              <a:ext cx="83883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3. Куда можно обратится для зашиты нарушенного трудового права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Прямоугольник 7"/>
          <p:cNvSpPr/>
          <p:nvPr/>
        </p:nvSpPr>
        <p:spPr>
          <a:xfrm>
            <a:off x="395280" y="3500280"/>
            <a:ext cx="777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В комиссию по трудовым спор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ttp://im8-tub-ru.yandex.net/i?id=61934058-06-72&amp;n=21"/>
          <p:cNvPicPr/>
          <p:nvPr/>
        </p:nvPicPr>
        <p:blipFill>
          <a:blip r:embed="rId2"/>
          <a:stretch/>
        </p:blipFill>
        <p:spPr>
          <a:xfrm>
            <a:off x="3348000" y="2060640"/>
            <a:ext cx="2076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3212640"/>
            <a:ext cx="8218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Работод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Пояснение: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аботодатель обязан свести к минимуму воздействие на работника вредных и опасных факторов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Прямоугольник 5"/>
          <p:cNvGrpSpPr/>
          <p:nvPr/>
        </p:nvGrpSpPr>
        <p:grpSpPr>
          <a:xfrm>
            <a:off x="-79200" y="36360"/>
            <a:ext cx="9485280" cy="2163960"/>
            <a:chOff x="-79200" y="36360"/>
            <a:chExt cx="9485280" cy="2163960"/>
          </a:xfrm>
        </p:grpSpPr>
        <p:pic>
          <p:nvPicPr>
            <p:cNvPr id="6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79200" y="36360"/>
              <a:ext cx="948528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189000"/>
              <a:ext cx="91440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4. Кто несёт ответственность за обеспечение безопасных условий труда?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5" descr="http://im4-tub-ru.yandex.net/i?id=258328346-39-72&amp;n=21"/>
          <p:cNvPicPr/>
          <p:nvPr/>
        </p:nvPicPr>
        <p:blipFill>
          <a:blip r:embed="rId2"/>
          <a:srcRect l="7559" t="0" r="9278" b="0"/>
          <a:stretch/>
        </p:blipFill>
        <p:spPr>
          <a:xfrm>
            <a:off x="6875640" y="1700280"/>
            <a:ext cx="194436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11280" y="3933720"/>
            <a:ext cx="80755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Нет не мог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Пояснение: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так как трудовой договор это двухстороннее соглашение между работником и работодателе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Прямоугольник 5"/>
          <p:cNvGrpSpPr/>
          <p:nvPr/>
        </p:nvGrpSpPr>
        <p:grpSpPr>
          <a:xfrm>
            <a:off x="73080" y="182520"/>
            <a:ext cx="9101160" cy="2163960"/>
            <a:chOff x="73080" y="182520"/>
            <a:chExt cx="9101160" cy="2163960"/>
          </a:xfrm>
        </p:grpSpPr>
        <p:pic>
          <p:nvPicPr>
            <p:cNvPr id="70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73080" y="182520"/>
              <a:ext cx="910116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50920" y="333360"/>
              <a:ext cx="85690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5. Условия трудового договора могут быть изменены в одностороннем порядке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5" descr="http://im8-tub-ru.yandex.net/i?id=48290238-40-72&amp;n=21"/>
          <p:cNvPicPr/>
          <p:nvPr/>
        </p:nvPicPr>
        <p:blipFill>
          <a:blip r:embed="rId2"/>
          <a:stretch/>
        </p:blipFill>
        <p:spPr>
          <a:xfrm>
            <a:off x="3419640" y="2276640"/>
            <a:ext cx="1962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2707920"/>
            <a:ext cx="80755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Нет не мо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ояснение: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Испытательный срок назначается с целью проверки соответствия работника поручаемой работе т.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у выпускника недостаточно профессионального опыта, шансов пройти испытательный срок у него мало, поэтому предоставляется такая льг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Прямоугольник 5"/>
          <p:cNvGrpSpPr/>
          <p:nvPr/>
        </p:nvGrpSpPr>
        <p:grpSpPr>
          <a:xfrm>
            <a:off x="517680" y="109440"/>
            <a:ext cx="8156520" cy="2163960"/>
            <a:chOff x="517680" y="109440"/>
            <a:chExt cx="8156520" cy="2163960"/>
          </a:xfrm>
        </p:grpSpPr>
        <p:pic>
          <p:nvPicPr>
            <p:cNvPr id="7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517680" y="109440"/>
              <a:ext cx="815652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11280" y="260280"/>
              <a:ext cx="77770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6. Может ли быть назначен испытательный срок выпускнику ПТУ?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5" descr="http://im8-tub-ru.yandex.net/i?id=351819175-28-72&amp;n=21"/>
          <p:cNvPicPr/>
          <p:nvPr/>
        </p:nvPicPr>
        <p:blipFill>
          <a:blip r:embed="rId2"/>
          <a:stretch/>
        </p:blipFill>
        <p:spPr>
          <a:xfrm>
            <a:off x="6516720" y="22050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3640" y="3068640"/>
            <a:ext cx="8218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Нет не мож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Пояснение: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если заработная плата ниже, то работодатель обязан производить доплату до МРОТ (МРОТ устанавливается федеральным законом, в н.вр. равен 4611руб в месяц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Прямоугольник 5"/>
          <p:cNvGrpSpPr/>
          <p:nvPr/>
        </p:nvGrpSpPr>
        <p:grpSpPr>
          <a:xfrm>
            <a:off x="165240" y="36360"/>
            <a:ext cx="9161280" cy="2779920"/>
            <a:chOff x="165240" y="36360"/>
            <a:chExt cx="9161280" cy="2779920"/>
          </a:xfrm>
        </p:grpSpPr>
        <p:pic>
          <p:nvPicPr>
            <p:cNvPr id="80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65240" y="36360"/>
              <a:ext cx="9161280" cy="27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24000" y="189000"/>
              <a:ext cx="86756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7. Может ли заработная плата быть меньше установленного минимального размера оплаты труда?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Picture 5" descr="http://im6-tub-ru.yandex.net/i?id=523649650-52-72&amp;n=21"/>
          <p:cNvPicPr/>
          <p:nvPr/>
        </p:nvPicPr>
        <p:blipFill>
          <a:blip r:embed="rId2"/>
          <a:stretch/>
        </p:blipFill>
        <p:spPr>
          <a:xfrm>
            <a:off x="6443640" y="220500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218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В трудовой книж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ояснени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Трудовая книжка установленного образца является основным документом о трудовой деятельности и трудовом стаже, содержит сведения о работнике, выполняемой работе, переводы, увольнения и их причины, а также награды и поощ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ик 5"/>
          <p:cNvGrpSpPr/>
          <p:nvPr/>
        </p:nvGrpSpPr>
        <p:grpSpPr>
          <a:xfrm>
            <a:off x="334800" y="36360"/>
            <a:ext cx="8541000" cy="2163960"/>
            <a:chOff x="334800" y="36360"/>
            <a:chExt cx="8541000" cy="2163960"/>
          </a:xfrm>
        </p:grpSpPr>
        <p:pic>
          <p:nvPicPr>
            <p:cNvPr id="8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334800" y="36360"/>
              <a:ext cx="854100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95280" y="189000"/>
              <a:ext cx="84247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8. В каком документе фиксируется трудовая деятельность?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8" descr="http://im2-tub-ru.yandex.net/i?id=92297774-32-72&amp;n=21"/>
          <p:cNvPicPr/>
          <p:nvPr/>
        </p:nvPicPr>
        <p:blipFill>
          <a:blip r:embed="rId2"/>
          <a:stretch/>
        </p:blipFill>
        <p:spPr>
          <a:xfrm>
            <a:off x="6948360" y="177336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23:53:56Z</dcterms:created>
  <dc:creator>Любовь</dc:creator>
  <dc:description/>
  <dc:language>en-US</dc:language>
  <cp:lastModifiedBy>Любовь</cp:lastModifiedBy>
  <dcterms:modified xsi:type="dcterms:W3CDTF">2012-12-13T01:52:00Z</dcterms:modified>
  <cp:revision>29</cp:revision>
  <dc:subject/>
  <dc:title>1.Что является предметом трудового права? </dc:title>
</cp:coreProperties>
</file>