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2CAD-0EC9-4047-B52A-3C3C0C6D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9BFA-ACFE-42D6-9975-B4EBFCC7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0EB-E924-4ABE-A741-88319D3C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4815-6F97-4610-B805-613CE05F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915-8D3E-42A0-A11E-A2862847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04EB-4D2F-4ADE-9BF2-51090541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F62-7A13-48CF-9C8B-9704F301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681C-CBC1-4447-872D-D34FF7CE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EFEF-0FA1-4919-8889-2F4CEF6B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768-6D6F-4106-AE1C-A2613F5E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18F-CE8C-4E0E-B260-1EE129EA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484-50BC-4C3E-AD7C-19F2D3BA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E2BF-6192-496F-A030-FB6E89FA66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87280" y="981000"/>
            <a:ext cx="6909120" cy="27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ринные 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тательные </a:t>
            </a:r>
            <a:endParaRPr b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ппараты </a:t>
            </a:r>
            <a:endParaRPr b="1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здушные шары</a:t>
            </a:r>
            <a:endParaRPr b="1" lang="en-US" sz="32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57880" y="4581360"/>
            <a:ext cx="3246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оект выполнила: 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Чичигина Кристина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уководитель: 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оманова З.В.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276720" y="6237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нгарск, 2012 г.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987640" y="476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оект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" name="Picture 8" descr="3790190476_82f209bdcc"/>
          <p:cNvPicPr/>
          <p:nvPr/>
        </p:nvPicPr>
        <p:blipFill>
          <a:blip r:embed="rId9"/>
          <a:stretch/>
        </p:blipFill>
        <p:spPr>
          <a:xfrm>
            <a:off x="684360" y="3933720"/>
            <a:ext cx="316836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187280" y="18900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Воздушные шары</a:t>
            </a:r>
            <a:endParaRPr b="1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55640" y="1197000"/>
            <a:ext cx="2449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5 июля 1783 при большом стечении народа состоялся пробный полёт воздушного шара объёмом около 600 кубических метров и диаметром 11 метров. Запустили шар братья Этьен и Жозеф Монгольфье.</a:t>
            </a:r>
            <a:endParaRPr b="1" lang="en-US" sz="2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4" name="Picture 5" descr="2633336781_f454c6962a"/>
          <p:cNvPicPr/>
          <p:nvPr/>
        </p:nvPicPr>
        <p:blipFill>
          <a:blip r:embed="rId1"/>
          <a:stretch/>
        </p:blipFill>
        <p:spPr>
          <a:xfrm>
            <a:off x="3276720" y="1341360"/>
            <a:ext cx="2857320" cy="417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2634173878_53c3cda3df"/>
          <p:cNvPicPr/>
          <p:nvPr/>
        </p:nvPicPr>
        <p:blipFill>
          <a:blip r:embed="rId2"/>
          <a:stretch/>
        </p:blipFill>
        <p:spPr>
          <a:xfrm>
            <a:off x="6188040" y="2536920"/>
            <a:ext cx="29559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826920" y="0"/>
            <a:ext cx="727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Monotype Corsiva"/>
              </a:rPr>
              <a:t>Воздушные шары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11280" y="1484280"/>
            <a:ext cx="309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21 ноября 1783 года огромный монгольфьер высотой 21 метр с двумя смельчаками поднялся из замка Ла-Мюэт в окрестностях Парижа и достиг высоты 1000 метров, открыв новую страницу в истории человечества.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8" name="Picture 6" descr="2633343523_6119d353f4"/>
          <p:cNvPicPr/>
          <p:nvPr/>
        </p:nvPicPr>
        <p:blipFill>
          <a:blip r:embed="rId1"/>
          <a:stretch/>
        </p:blipFill>
        <p:spPr>
          <a:xfrm>
            <a:off x="5003640" y="1268280"/>
            <a:ext cx="330516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187280" y="1159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Воздушные шары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11280" y="765000"/>
            <a:ext cx="302400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январе</a:t>
            </a: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 1785 года знаменитый в последствии аэронавт Бланшар перелетел через Ла-Манш из Англии во Францию, открыв таким образом эпоху воздушных путешествий.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1" name="Picture 6" descr="2629665286_5773cc9088"/>
          <p:cNvPicPr/>
          <p:nvPr/>
        </p:nvPicPr>
        <p:blipFill>
          <a:blip r:embed="rId1"/>
          <a:stretch/>
        </p:blipFill>
        <p:spPr>
          <a:xfrm>
            <a:off x="4643280" y="1052640"/>
            <a:ext cx="354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0" y="882000"/>
            <a:ext cx="4857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Практическая польза от воздухоплавания, учитывая колоссальные затраты на него (особенно в эпоху увлечения дирижаблями, которая пришлась на первую треть XX века), всегда была ничтожна. Но не следует судить об этом замечательном завоевании человеческого ума только с точки зрения практической выгоды. Аэростат впервые дал людям возможность оторваться от земли и взмыть под облака, подобно птице; он удовлетворил многовековую мечту человека о полете. Поэтому его создание должно быть поставлено в ряд величайших человеческих изобретений.</a:t>
            </a:r>
            <a:endParaRPr b="1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3" name="Picture 6" descr="C:\Documents and Settings\Romanova_ZV2\Рабочий стол\НПК 2012\Чичигина\Картинки\i (54).jpg"/>
          <p:cNvPicPr/>
          <p:nvPr/>
        </p:nvPicPr>
        <p:blipFill>
          <a:blip r:embed="rId1"/>
          <a:stretch/>
        </p:blipFill>
        <p:spPr>
          <a:xfrm>
            <a:off x="6286680" y="264312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Documents and Settings\Romanova_ZV2\Рабочий стол\НПК 2012\Чичигина\Картинки\i (35).jpg"/>
          <p:cNvPicPr/>
          <p:nvPr/>
        </p:nvPicPr>
        <p:blipFill>
          <a:blip r:embed="rId2"/>
          <a:stretch/>
        </p:blipFill>
        <p:spPr>
          <a:xfrm>
            <a:off x="5286240" y="1071720"/>
            <a:ext cx="1957680" cy="1461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C:\Documents and Settings\Romanova_ZV2\Рабочий стол\НПК 2012\Чичигина\Картинки\1769777674_819d41fb77_b.jpg"/>
          <p:cNvPicPr/>
          <p:nvPr/>
        </p:nvPicPr>
        <p:blipFill>
          <a:blip r:embed="rId3"/>
          <a:stretch/>
        </p:blipFill>
        <p:spPr>
          <a:xfrm>
            <a:off x="5143680" y="4572000"/>
            <a:ext cx="2774880" cy="2081160"/>
          </a:xfrm>
          <a:prstGeom prst="rect">
            <a:avLst/>
          </a:prstGeom>
          <a:ln w="0">
            <a:noFill/>
          </a:ln>
        </p:spPr>
      </p:pic>
      <p:sp>
        <p:nvSpPr>
          <p:cNvPr id="96" name="TextBox 8"/>
          <p:cNvSpPr/>
          <p:nvPr/>
        </p:nvSpPr>
        <p:spPr>
          <a:xfrm>
            <a:off x="1714680" y="28584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Вывод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3643200" y="214200"/>
            <a:ext cx="137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Monotype Corsiva"/>
              </a:rPr>
              <a:t>Вывод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1571760" y="114300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ипотеза подтверждена - появление воздушных шаров явилось движущей силой для дальнейшего развития летательных аппаратов  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2" descr="C:\Documents and Settings\Romanova_ZV2\Рабочий стол\НПК 2012\Чичигина\Дирижабли\i (5).jpg"/>
          <p:cNvPicPr/>
          <p:nvPr/>
        </p:nvPicPr>
        <p:blipFill>
          <a:blip r:embed="rId1"/>
          <a:stretch/>
        </p:blipFill>
        <p:spPr>
          <a:xfrm>
            <a:off x="3000240" y="4572000"/>
            <a:ext cx="213840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847440" y="1341360"/>
            <a:ext cx="34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arinni.livejournal.com/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2357280" y="357120"/>
            <a:ext cx="471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Используемые ресурсы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763640" y="33336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Цель проекта</a:t>
            </a:r>
            <a:endParaRPr b="1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57120" y="1214280"/>
            <a:ext cx="6337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ассмотреть историю возникновения и классификацию воздушных шаров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357280" y="25718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Задачи проекта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714240" y="3286080"/>
            <a:ext cx="64087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пределение проблемы, задач исследования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движение гипотезы их решения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бор способа оформления конечных результатов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бор, систематизация и анализ материала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дведение итогов, оформление результатов, презентация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воды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0" name="Picture 4" descr="02337r"/>
          <p:cNvPicPr/>
          <p:nvPr/>
        </p:nvPicPr>
        <p:blipFill>
          <a:blip r:embed="rId1"/>
          <a:stretch/>
        </p:blipFill>
        <p:spPr>
          <a:xfrm>
            <a:off x="6708600" y="500040"/>
            <a:ext cx="243540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476360" y="0"/>
            <a:ext cx="619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Гипотеза</a:t>
            </a:r>
            <a:endParaRPr b="1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258920" y="134136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928800" y="1143000"/>
            <a:ext cx="607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ление воздушных шаров явилось движущей силой для дальнейшего развития летательных аппаратов  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4" name="Picture 6" descr="C:\Documents and Settings\Romanova_ZV2\Рабочий стол\НПК 2012\Чичигина\Дирижабли\i.jpg"/>
          <p:cNvPicPr/>
          <p:nvPr/>
        </p:nvPicPr>
        <p:blipFill>
          <a:blip r:embed="rId1"/>
          <a:stretch/>
        </p:blipFill>
        <p:spPr>
          <a:xfrm>
            <a:off x="3500280" y="4714920"/>
            <a:ext cx="2495880" cy="1612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Documents and Settings\Romanova_ZV2\Рабочий стол\НПК 2012\Чичигина\Дирижабли\i (5).jpg"/>
          <p:cNvPicPr/>
          <p:nvPr/>
        </p:nvPicPr>
        <p:blipFill>
          <a:blip r:embed="rId2"/>
          <a:stretch/>
        </p:blipFill>
        <p:spPr>
          <a:xfrm>
            <a:off x="1071720" y="3857760"/>
            <a:ext cx="1643040" cy="122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220px-V20001"/>
          <p:cNvPicPr/>
          <p:nvPr/>
        </p:nvPicPr>
        <p:blipFill>
          <a:blip r:embed="rId3"/>
          <a:stretch/>
        </p:blipFill>
        <p:spPr>
          <a:xfrm>
            <a:off x="6000840" y="3000240"/>
            <a:ext cx="20955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116000" y="260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Первые летательные аппараты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11280" y="1413000"/>
            <a:ext cx="288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Первыми летательными аппаратами для человека служили воздушные шары, планеры и дирижабли.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Picture 7" descr="Аэростаты"/>
          <p:cNvPicPr/>
          <p:nvPr/>
        </p:nvPicPr>
        <p:blipFill>
          <a:blip r:embed="rId1"/>
          <a:stretch/>
        </p:blipFill>
        <p:spPr>
          <a:xfrm>
            <a:off x="4643280" y="765000"/>
            <a:ext cx="33879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971640" y="404640"/>
            <a:ext cx="712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619280" y="0"/>
            <a:ext cx="6553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Воздушные шары</a:t>
            </a:r>
            <a:endParaRPr b="1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84360" y="1197000"/>
            <a:ext cx="324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Летописи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XII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века рассказывают о том, что в карельских посёлках воздушный шар, сделанный из кожи кита и быка, имела практически каждая семья – шары помогали людям преодолевать расстояние между населёнными пунктами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3" name="Picture 9" descr="i (15)"/>
          <p:cNvPicPr/>
          <p:nvPr/>
        </p:nvPicPr>
        <p:blipFill>
          <a:blip r:embed="rId1"/>
          <a:stretch/>
        </p:blipFill>
        <p:spPr>
          <a:xfrm>
            <a:off x="5837400" y="785880"/>
            <a:ext cx="3306600" cy="2579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i (20)"/>
          <p:cNvPicPr/>
          <p:nvPr/>
        </p:nvPicPr>
        <p:blipFill>
          <a:blip r:embed="rId2"/>
          <a:stretch/>
        </p:blipFill>
        <p:spPr>
          <a:xfrm>
            <a:off x="4071960" y="3406680"/>
            <a:ext cx="260028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971640" y="189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Monotype Corsiva"/>
              </a:rPr>
              <a:t>Классификация воздушных шаров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684360" y="1916280"/>
            <a:ext cx="1008000" cy="504720"/>
          </a:xfrm>
          <a:prstGeom prst="rightArrow">
            <a:avLst>
              <a:gd name="adj1" fmla="val 50000"/>
              <a:gd name="adj2" fmla="val 499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755640" y="3284640"/>
            <a:ext cx="1008000" cy="504720"/>
          </a:xfrm>
          <a:prstGeom prst="rightArrow">
            <a:avLst>
              <a:gd name="adj1" fmla="val 50000"/>
              <a:gd name="adj2" fmla="val 499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826920" y="4581360"/>
            <a:ext cx="1008360" cy="505080"/>
          </a:xfrm>
          <a:prstGeom prst="rightArrow">
            <a:avLst>
              <a:gd name="adj1" fmla="val 50000"/>
              <a:gd name="adj2" fmla="val 499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2340000" y="1413000"/>
            <a:ext cx="6048360" cy="12952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Газовые - шарльеры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2340000" y="2925720"/>
            <a:ext cx="6048360" cy="12952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Тепловые - монгольфьеры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2268360" y="4437000"/>
            <a:ext cx="6048720" cy="1295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Комбинированные -розьеры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1187280" y="18900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Воздушные шары</a:t>
            </a:r>
            <a:endParaRPr b="1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55640" y="1197000"/>
            <a:ext cx="32400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5 июля 1783 при большом стечении народа состоялся пробный полёт воздушного шара объёмом около 600 кубических метров и диаметром 11 метров. Запустили шар братья Этьен и Жозеф Монгольфье. Горячий пар поднял шар на высоту 2000 метров.</a:t>
            </a:r>
            <a:endParaRPr b="1" lang="en-US" sz="2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4" name="Picture 10" descr="2770764092_b309501345"/>
          <p:cNvPicPr/>
          <p:nvPr/>
        </p:nvPicPr>
        <p:blipFill>
          <a:blip r:embed="rId1"/>
          <a:stretch/>
        </p:blipFill>
        <p:spPr>
          <a:xfrm>
            <a:off x="4932360" y="836640"/>
            <a:ext cx="350208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02472r"/>
          <p:cNvPicPr/>
          <p:nvPr/>
        </p:nvPicPr>
        <p:blipFill>
          <a:blip r:embed="rId1"/>
          <a:stretch/>
        </p:blipFill>
        <p:spPr>
          <a:xfrm>
            <a:off x="4500720" y="1773360"/>
            <a:ext cx="4390920" cy="33541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311120" y="152280"/>
            <a:ext cx="6861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050920" y="18900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Воздушные шары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55640" y="1341360"/>
            <a:ext cx="316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27 августа 1783 года на Марсовом поле состоялся запуск первого шарльера. Более 200 тысяч парижан присутствовало при этом небывалом зрелище. Аэростат поднялся на высоту около 1 километра.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959120" y="0"/>
            <a:ext cx="451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Monotype Corsiva"/>
              </a:rPr>
              <a:t>Воздушные шары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468360" y="1268280"/>
            <a:ext cx="381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9 сентября  1783 года в Версале перед глазами самого короля и бесчисленной толпы  братья Монгольфье подняли в воздух шар диаметром 12,3 м с первыми в мире воздухоплавателями: бараном, петухом и уткой.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1" name="Picture 6" descr="2770761334_c878e85dfd"/>
          <p:cNvPicPr/>
          <p:nvPr/>
        </p:nvPicPr>
        <p:blipFill>
          <a:blip r:embed="rId1"/>
          <a:stretch/>
        </p:blipFill>
        <p:spPr>
          <a:xfrm>
            <a:off x="4572000" y="836640"/>
            <a:ext cx="38419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00:52:38Z</dcterms:created>
  <dc:creator>Romanova_ZV2</dc:creator>
  <dc:description/>
  <dc:language>en-US</dc:language>
  <cp:lastModifiedBy>Romanova_ZV2</cp:lastModifiedBy>
  <dcterms:modified xsi:type="dcterms:W3CDTF">2012-04-25T00:38:14Z</dcterms:modified>
  <cp:revision>25</cp:revision>
  <dc:subject/>
  <dc:title>Слайд 1</dc:title>
</cp:coreProperties>
</file>